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309-D1E7-47BB-A161-A50574C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E29-2FB3-4CE1-AAA1-6D71C0EE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BA3-6622-4E1D-AB86-DB7BA926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D78-1352-4463-AE76-A4D71970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002-8343-49B9-A8F9-F5CF77D5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31D-A309-44CF-8812-B4F5A77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1BE-0115-4414-9DF2-5DEB066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38E-DDB3-4261-8993-3FEB0918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B76-2E30-4D66-BF7D-79842C14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B13-2974-4E4D-9874-1B8124DC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AF6-DEE6-483E-BA19-1372E86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0CC-398A-477F-AFE3-2397AB41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E10E4-5800-4BFA-AD30-FEB177C585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55904-49E3-4429-89D9-D1A0E0804CC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22:00Z</dcterms:created>
  <dc:creator>최봉수</dc:creator>
  <dc:description/>
  <dc:language>en-US</dc:language>
  <cp:lastModifiedBy>맛있다 군만두</cp:lastModifiedBy>
  <dcterms:modified xsi:type="dcterms:W3CDTF">2023-07-13T07:59:08Z</dcterms:modified>
  <cp:revision>3</cp:revision>
  <dc:subject/>
  <dc:title>슬라이드 1</dc:title>
</cp:coreProperties>
</file>