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1D6-B713-4A4E-B00B-D4FF9EDC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D26-0305-4F82-A9A6-6CF28303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6B23-89AB-4535-AE2F-2655A618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0731-8C16-4D0E-A59D-AEB512CE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074-9B00-4E9A-98DC-029D227E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140-05FE-44B0-915F-B7302EB3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CB5F-4739-4668-B994-31CA08E1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277D-92F2-4FB5-8016-7AC099B9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A9B-7B4E-458A-AE18-2C8A7D08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0AE0-E8A5-4A1B-A1B0-DF7E6E44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C07-97B8-4013-BFEB-F0A3F2A5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734C-28E0-40A1-9A7B-0CE55AB7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1D0E3-DA1E-4087-95A0-2AF6025905E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94B86-6779-4212-914B-3FB5FF9FF34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" Target="slide7.xml"/><Relationship Id="rId13" Type="http://schemas.openxmlformats.org/officeDocument/2006/relationships/image" Target="../media/image3.png"/><Relationship Id="rId14" Type="http://schemas.openxmlformats.org/officeDocument/2006/relationships/slide" Target="slide9.xm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88" name="Picture 6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91" name="Picture 9" descr=""/>
            <p:cNvPicPr/>
            <p:nvPr/>
          </p:nvPicPr>
          <p:blipFill>
            <a:blip r:embed="rId3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94" name="Picture 12" descr=""/>
            <p:cNvPicPr/>
            <p:nvPr/>
          </p:nvPicPr>
          <p:blipFill>
            <a:blip r:embed="rId4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97" name="Picture 15" descr=""/>
            <p:cNvPicPr/>
            <p:nvPr/>
          </p:nvPicPr>
          <p:blipFill>
            <a:blip r:embed="rId5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00" name="Picture 18" descr=""/>
            <p:cNvPicPr/>
            <p:nvPr/>
          </p:nvPicPr>
          <p:blipFill>
            <a:blip r:embed="rId6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2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2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3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3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3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4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4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4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4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5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5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5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6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6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6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7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7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0">
              <a:hlinkClick r:id="rId6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7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3">
              <a:hlinkClick r:id="rId9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81" name="Picture 15" descr=""/>
            <p:cNvPicPr/>
            <p:nvPr/>
          </p:nvPicPr>
          <p:blipFill>
            <a:blip r:embed="rId10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6">
              <a:hlinkClick r:id="rId11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84" name="Picture 18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>
              <a:hlinkClick r:id="rId14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8:22:00Z</dcterms:created>
  <dc:creator>최봉수</dc:creator>
  <dc:description/>
  <dc:language>en-US</dc:language>
  <cp:lastModifiedBy>맛있다 군만두</cp:lastModifiedBy>
  <dcterms:modified xsi:type="dcterms:W3CDTF">2023-07-13T07:59:08Z</dcterms:modified>
  <cp:revision>3</cp:revision>
  <dc:subject/>
  <dc:title>슬라이드 1</dc:title>
</cp:coreProperties>
</file>