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5CE2-4742-48F8-B14E-31B93FB63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3C06-44E6-416B-8919-B6593E5B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168D-32DF-431C-B119-D68600249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6C95-F647-43E6-A8B7-692AA1AEE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9616-20C2-4B2E-B54D-884BCFF6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A322-0CBE-4304-A394-D8BE06A7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7EDC-3E95-414F-9B12-D9118585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D5BD-619F-48D3-957D-339EF292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BC60-F9BB-44C2-A388-C8FD1EDF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BED0-BC5E-4250-A315-7A3DAEFB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71C3-16C5-45CF-A3EA-9A7A4FD0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D7B0-0FE7-4C61-99C0-EE1D815E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490D22-75D7-47CA-A3D2-6D17E4A1B43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FB4380-59B4-4FDE-8481-76AC2063C701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2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2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2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2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2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2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3.xml"/><Relationship Id="rId4" Type="http://schemas.openxmlformats.org/officeDocument/2006/relationships/image" Target="../media/image2.png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image" Target="../media/image2.png"/><Relationship Id="rId8" Type="http://schemas.openxmlformats.org/officeDocument/2006/relationships/slide" Target="slide4.xml"/><Relationship Id="rId9" Type="http://schemas.openxmlformats.org/officeDocument/2006/relationships/image" Target="../media/image2.png"/><Relationship Id="rId10" Type="http://schemas.openxmlformats.org/officeDocument/2006/relationships/slide" Target="slide1.xml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4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4" name="Picture 4" descr="144-1-1"/>
          <p:cNvPicPr/>
          <p:nvPr/>
        </p:nvPicPr>
        <p:blipFill>
          <a:blip r:embed="rId13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" name="Picture 4" descr="144-후렴1_2_3 copy"/>
          <p:cNvPicPr/>
          <p:nvPr/>
        </p:nvPicPr>
        <p:blipFill>
          <a:blip r:embed="rId13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0" name="Picture 4" descr="144-2-1 copy"/>
          <p:cNvPicPr/>
          <p:nvPr/>
        </p:nvPicPr>
        <p:blipFill>
          <a:blip r:embed="rId13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2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5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8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1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3" name="Picture 4" descr="144-후렴1_2_3 copy"/>
          <p:cNvPicPr/>
          <p:nvPr/>
        </p:nvPicPr>
        <p:blipFill>
          <a:blip r:embed="rId13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5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8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1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4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6" name="Picture 4" descr="144-3-1 copy"/>
          <p:cNvPicPr/>
          <p:nvPr/>
        </p:nvPicPr>
        <p:blipFill>
          <a:blip r:embed="rId13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8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1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4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7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9" name="Picture 4" descr="144-후렴1_2_3 copy"/>
          <p:cNvPicPr/>
          <p:nvPr/>
        </p:nvPicPr>
        <p:blipFill>
          <a:blip r:embed="rId13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1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4" name="Pictur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10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7" name="Picture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3">
              <a:hlinkClick r:id="rId8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0" name="Picture 15" descr=""/>
            <p:cNvPicPr/>
            <p:nvPr/>
          </p:nvPicPr>
          <p:blipFill>
            <a:blip r:embed="rId9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6">
              <a:hlinkClick r:id="rId10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2" name="Picture 4" descr="144-4-1 copy"/>
          <p:cNvPicPr/>
          <p:nvPr/>
        </p:nvPicPr>
        <p:blipFill>
          <a:blip r:embed="rId11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17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4" name="Picture 18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19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Group 20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7" name="Picture 21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22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Group 23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0" name="Picture 24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25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Group 26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3" name="Picture 27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28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5" name="Picture 4" descr="144-후렴4 copy"/>
          <p:cNvPicPr/>
          <p:nvPr/>
        </p:nvPicPr>
        <p:blipFill>
          <a:blip r:embed="rId6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09:14:46Z</dcterms:created>
  <dc:creator>최봉수</dc:creator>
  <dc:description/>
  <dc:language>en-US</dc:language>
  <cp:lastModifiedBy>맛있다 군만두</cp:lastModifiedBy>
  <dcterms:modified xsi:type="dcterms:W3CDTF">2024-10-01T02:42:24Z</dcterms:modified>
  <cp:revision>5</cp:revision>
  <dc:subject/>
  <dc:title>슬라이드 1</dc:title>
</cp:coreProperties>
</file>