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29E-630C-4820-9B84-5BA510C4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FC2-F473-4DBC-8812-ED47FFD1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EB5A-9CAC-4A20-9541-B825B2C3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315-56A0-435F-88DB-4F846A13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39C-C619-4E27-8346-71BA507C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710-5DD9-4B5D-BBFD-A54DD190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BA8-4131-4982-9F36-10C57020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65D3-610F-4A83-8398-69C3722A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C83-AB5D-4E83-B811-26A4DD52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8618-9F93-4335-98A3-0122759A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C44-F507-4267-97C2-19D66300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12F-E49D-4AAB-B9FB-F276FB6F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C72A2-399F-4798-B435-1821EC22F05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D1158-94A0-4BC1-9A21-84502B00253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7.xml"/><Relationship Id="rId8" Type="http://schemas.openxmlformats.org/officeDocument/2006/relationships/slide" Target="slide2.xml"/><Relationship Id="rId9" Type="http://schemas.openxmlformats.org/officeDocument/2006/relationships/image" Target="../media/image2.png"/><Relationship Id="rId10" Type="http://schemas.openxmlformats.org/officeDocument/2006/relationships/slide" Target="slide4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2.png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image" Target="../media/image2.png"/><Relationship Id="rId8" Type="http://schemas.openxmlformats.org/officeDocument/2006/relationships/slide" Target="slide4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4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Picture 4" descr="144-1-1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4" descr="144-후렴1_2_3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0" name="Picture 4" descr="144-2-1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1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4" descr="144-후렴1_2_3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5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8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1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4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Picture 4" descr="144-3-1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4" descr="144-후렴1_2_3 copy"/>
          <p:cNvPicPr/>
          <p:nvPr/>
        </p:nvPicPr>
        <p:blipFill>
          <a:blip r:embed="rId13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1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4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7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0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Picture 4" descr="144-4-1 copy"/>
          <p:cNvPicPr/>
          <p:nvPr/>
        </p:nvPicPr>
        <p:blipFill>
          <a:blip r:embed="rId11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7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4" name="Picture 18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9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Group 20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7" name="Picture 21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22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23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0" name="Picture 24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25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26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3" name="Picture 27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28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5" name="Picture 4" descr="144-후렴4 copy"/>
          <p:cNvPicPr/>
          <p:nvPr/>
        </p:nvPicPr>
        <p:blipFill>
          <a:blip r:embed="rId6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9:14:46Z</dcterms:created>
  <dc:creator>최봉수</dc:creator>
  <dc:description/>
  <dc:language>en-US</dc:language>
  <cp:lastModifiedBy>맛있다 군만두</cp:lastModifiedBy>
  <dcterms:modified xsi:type="dcterms:W3CDTF">2024-10-01T02:42:24Z</dcterms:modified>
  <cp:revision>5</cp:revision>
  <dc:subject/>
  <dc:title>슬라이드 1</dc:title>
</cp:coreProperties>
</file>