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530-627B-4C58-9BD5-091899D3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A20-D1BF-486D-8E1E-8C065969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582-78EF-4FAC-94DA-1C2E24CA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E25-B957-40AB-879E-730793D8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8B91-46CB-4F39-A546-2C7668B5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94EA-52C7-43A3-837B-591C4588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1D20-6226-424D-8FD2-1CBA3F9B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09A7-5D5A-4203-A909-8E6B9D4E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C683-5F95-433A-915A-23B284CC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C33D-5EDE-4D52-9E6F-9A361ACE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0080-F16B-4833-A539-73907477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F24-7E2A-489B-AECC-9E2845B5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93CF-63DD-4BAB-A874-CDA28488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7766-1EF3-48B0-A35F-CA604481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4BE7-E9BE-454C-ACF4-BAA02250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1C14-06DD-4D6A-8E34-6B59FEF6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2DCE-3BB2-48A4-A81C-B3F501EB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870-E9FE-4A14-9ECB-4FE15BE4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7F3-3605-4A1B-8B92-B1E82393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C4A-8B65-4B0A-8121-09A6A93F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0DC-B32C-4AAF-B226-5409807E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955-A7CB-4CC4-B1A3-DF1A64E6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000-A4E0-4611-80EC-4415035D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86A-1180-4283-A4DF-9C6BE0EA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1773-7D1B-4074-A59B-B2706D6CA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C313-A4F6-4656-A37A-76503D2D5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أدوية</a:t>
            </a:r>
            <a:r>
              <a:rPr b="0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جهاز</a:t>
            </a:r>
            <a:r>
              <a:rPr b="0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التنفس</a:t>
            </a:r>
            <a:r>
              <a:rPr b="0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RESPIRATOR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DRUG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الأستاذ الدكتور عبد الناصر عمرين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كلية الصيدلة – قسم علم تاثير الأدوية والسمو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           جامعة دمش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81F-CEE5-46A4-BDFF-C75159F673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* 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soetharin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استنشا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O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قصير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يستقلب بالـــ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ومن ثم في الكبد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يطرح الدواء الأصلي ومستقبلاته في البول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*</a:t>
            </a: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etaproterenol ( Alupent , Metaprel)</a:t>
            </a: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: استنشاق 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O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قصيرين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يستقلب على نحو كبير في المرور الأول بالكبد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- pass hepatic metabolis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يطرح الدواء الأصل ومستقبلاته في البول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0F3-BD75-46D2-8D39-D61728CDF5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*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rbutaline ( Brethine)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استنشاق 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O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قصيري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يستقلب جزئياً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a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في الكبد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يطرح الأصل ومستقبلاته في البول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rmoterol( Foradil)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استنشا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O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قصيرين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في الكب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يطرح الأصل ومستقبلاته في البول والبراز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C13-8390-4F8E-ABAE-13DC41BF5D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almeterol ( Servent 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alation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طويلة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في الكبد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patic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تطرح المستقبلات في البراز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8F1-3A3C-47FD-8DD5-491A4E5806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66"/>
                </a:solidFill>
                <a:uFillTx/>
                <a:latin typeface="Arial"/>
              </a:rPr>
              <a:t>* ضواد الموسكارينية 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Muscarinic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Antagonist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pratropium (Atrovent)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: إنشاقاً ( متأين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onized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جداً في الأسناخ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veoli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, فلا يُمتَصّ ) وفي الأنف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sa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: في الكبد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: يطرح الأصل ومستقلباته في البول والبراز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Times New Roman"/>
              </a:rPr>
              <a:t>- آلية التأثير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 يمنع تضيُّق القصبات المتواسط بالعصب المبه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ga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Times New Roman"/>
              </a:rPr>
              <a:t> -الاستعمالات السريرية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. الربو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thma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Times New Roman"/>
              </a:rPr>
              <a:t>-  التاثيرات الجانبية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. قليلة بسبب نقص امتصاصه المجموعي 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9C7-BD90-42B9-ABDD-774D483843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66"/>
                </a:solidFill>
                <a:latin typeface="Arial"/>
              </a:rPr>
              <a:t>*   الميثيل زانثين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ophylline ( Elixophyllin ,Slo-phyllin,Uniphy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Theo-Dur , Theo24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في الكب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يطرح الأصل ومستقلباته في البول 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 آلية التاثير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يثب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D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فيزيد مستويات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إن زيادة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في الخلايا البدينة يُنقِص إنخسافها </a:t>
            </a:r>
            <a:r>
              <a:rPr b="0" lang="ar-SA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granulatio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250-09D7-4A9A-B862-168AD17667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الاستعمالات السريرية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موسِّع قصبي في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D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( كان كثير الاستعمال في علاج الربو )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التاثيرات الجانبية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de  Effects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تهيج السبيل المعدي المعوي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منبه للــ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N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( قد يسبب اختلاجات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izure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يدخل عضلة القلب ويزيد القلوصي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onotropy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والسرع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otropy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يقوي تقلّص العضلات الهيكلي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eletal muscl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297-30DE-4B21-A408-469F2D003F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* الكورتيكوستيرويدات الضبوبية 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Aerosol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Corticosteroids</a:t>
            </a: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-  آلية تأثيرها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ذات خواص مضادة للالتهاب ( ربما عبر تأثيراتها على الخلايا البدينة ) ومقبضة للأوعية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soconstriction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-  استعمالاتها السريري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الربو ( تحافظ على سالكية المسلك الهوائي أثناء الالتهاب الآجل )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تسيطر على مراحل الالتهاب الحادّة والآجلة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BF2-816B-470C-B483-550F073974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  <a:ea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</a:t>
            </a:r>
            <a:r>
              <a:rPr b="1" i="1" lang="ar-SA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*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Fluticasone(Flov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إنشاقا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يستقلب الجزء الممتص في الكبد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يُطرح معظم المستقلبات في البراز والباقي في البول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- التأثيرات الجانبي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urg-Strauss syndr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hinitis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2EB-824C-4864-840B-F4538553B5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  <a:ea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6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Beclomethasone(Vancena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nasal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- التأثيرات الجانبي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- لزعة/حرقة أنفي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- صداع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ach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DF1-97AA-4896-95B0-4C66ACF87B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* مثبطات انخساف الخلايا البدينة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Mast Cell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Degranulation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Inhibitor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romolyn sodium ( Intal,Nasalcrom)</a:t>
            </a: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docromil(Tilade)</a:t>
            </a: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حرائكهما الدوائية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وانشاقاً ؛  تأثيرهما موضعي لقلّة امتصاصهما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يطرحان كما هما بدون تبدل , في الصفراء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والبول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آلية التأثير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منع إطلاق الليكوتريينات والهيستامين من الخلايا البدين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06D-D946-48CF-B92A-2EF2D6F016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. </a:t>
            </a:r>
            <a:r>
              <a:rPr b="0" lang="ar-SA" sz="4400" spc="-1" strike="noStrike">
                <a:solidFill>
                  <a:srgbClr val="ffcc66"/>
                </a:solidFill>
                <a:latin typeface="Arial"/>
              </a:rPr>
              <a:t>أدوية الربو 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sthma Drug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1</a:t>
            </a: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- موسعات القصبات  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Bronchodi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أ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ناهضات / منبهات  البيتا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 الأدرينرج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- Adrenergic agonists 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protereno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ute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ethar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protereno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butal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otero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lmetero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AD5-A86D-44AD-A90F-03C0643E58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- الاستعمالات السريري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. للوقاية من الربو القصبي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. للوقاية من التهاب الأنف الأرجي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. يحصران الاستجابتان المبكرة والآجلة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- التاثيرات الجانبي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. السعال بسبب التهيج بإعطائها على شكل حلالات/ضبو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28E-F654-43E5-B807-F74FFA2892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* ضواد مستقبلة الليكوتريين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Leukotriene Receptor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Antagonis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Zafirlukast (Accola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في الكبد بالسيتوكروم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45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يطرح معظمه في البراز , والباقي في البول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آلية التأثير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يحصر مستقبل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T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و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 الاستعمالات السريرية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للوقاية من هجمات التشنج القصبي الحادة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bronchospa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FDA-27CC-46EA-BEB6-AE36167688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 التأثيرات الجانبي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الصداع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dach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الغثيان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ontelukast(Singulair)</a:t>
            </a: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له نفس حرائك واستعمالات وألية السابق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التأثيرات الجانبية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الصدا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الم البطن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dominal  pai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urg-Strauss 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764-167A-4E2B-8C90-08FAF96AC3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- مثبطات </a:t>
            </a:r>
            <a:r>
              <a:rPr b="0" lang="ar-SA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0" lang="ar-SA" sz="2400" spc="-1" strike="noStrike" u="sng" baseline="36000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/ </a:t>
            </a:r>
            <a:r>
              <a:rPr b="0" lang="ar-SA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- ليبوكسيجيناز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0" lang="en-US" sz="3200" spc="-1" strike="noStrike" u="sng" baseline="36000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 -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Lipooxygenase Inhibitors</a:t>
            </a:r>
            <a:r>
              <a:rPr b="0" lang="ar-SA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Zeleuton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Zyfl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0" lang="ar-SA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في الكبد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تطرح  المستقلبات في البول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Times New Roman"/>
              </a:rPr>
              <a:t>-  آلية التأثير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يمنع تكوين الليكوتربينات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Times New Roman"/>
              </a:rPr>
              <a:t>-  الاستعمال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. للوقاية من هجمات التشنج القصبي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Times New Roman"/>
              </a:rPr>
              <a:t>-  التأثيرات الجانبية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. عسر الهضم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yspepsia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. الاسهال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rrhea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. الصداع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d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581-D8F7-4260-9C16-82E45354FE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I</a:t>
            </a: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.أدوية الزكام /البرد/                        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old  Medications</a:t>
            </a: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التصنيف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1</a:t>
            </a: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-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مزيلات احتقان الأنف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asal decongestants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 أ. مزيلات الاحتقان المجموعية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ic decongestants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  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eudoephedri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ب. ناهضات الألفا </a:t>
            </a:r>
            <a:r>
              <a:rPr b="0" i="1" lang="ar-SA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الموضعية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pical </a:t>
            </a:r>
            <a:r>
              <a:rPr b="0" i="1" lang="ar-SA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- agon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ymetazoli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phazol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ylephri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AFF8-4FA4-47A1-AB54-F39E0DB297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2</a:t>
            </a: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-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ntihistamines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pheniramin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yltoloxamin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BCA-9C67-4ACD-BFB1-1CCFC421C2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3</a:t>
            </a: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-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مضادات السعال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titussives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  أ. المؤثرة مركزيا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- الأفيوني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iat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 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i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                            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xtromethorpha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- اللاأفيوني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opiat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            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etapenta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            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amiphe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            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lophediano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  ب. المؤثرة محيطياً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ipherally  acting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zonatat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E75-F210-4058-B86D-D42ABA8289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4</a:t>
            </a: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.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 المقشّعات / طاردات البلغم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ctorants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aifenesin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7E5-C5FC-4F1D-AF5D-55AEE2F129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ar-SA" sz="4400" spc="-1" strike="noStrike">
                <a:solidFill>
                  <a:srgbClr val="ffcc66"/>
                </a:solidFill>
                <a:latin typeface="Arial"/>
              </a:rPr>
              <a:t>- مزيلات احتقان الأنف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أ.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مزيلات الإحتقان المجموعية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seudoephedrine( Sudafed)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آلية التأثير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 تضييق الأوعي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soconstrictio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في المخاطية الأنفي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الاستعمال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 . إن تضييق الأوعية التنفسية يُنقِص احتقان الأنف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التأثيرات الجانبية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 مضادات استطباب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indicated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عند مرضى فرط الضغط وبعد احتشاء عضلة القلب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ocardial infractio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  أو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hyroidis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لأنه يزيد ضغط الدم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08A-2E85-4E8B-ADE7-1B97A80AC3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ب.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مزيلات الاحتقان الموضعية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pical Decongestants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ymetazoline(Afrin,Dristan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phazoline(Privine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ylephrine(Neo-Synephrine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- تعمل هذه الأدوية بتضييق الأوعية في المخاطية الأنفية فتُنقِص التهاب المخاطية وتقلل تيبس الأنف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al stuffines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- تستعمل لإنقاص احتقان الأن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F6E-AD3A-4686-94BE-11D11FE81C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Times New Roman"/>
              </a:rPr>
              <a:t>ب. ضواد الموسكارينية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carinic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agonists</a:t>
            </a:r>
            <a:r>
              <a:rPr b="0" i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i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ratrop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Times New Roman"/>
              </a:rPr>
              <a:t>جـ . الميثيل زانتين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ethyl   xanthine</a:t>
            </a:r>
            <a:r>
              <a:rPr b="0" i="1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ophylline</a:t>
            </a:r>
            <a:r>
              <a:rPr b="0" i="1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76CA-F7B7-47F6-8200-B00F3A4FDF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-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تأثيراتها الجانبي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 . صداع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ac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            . دوخة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zz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            . رعاش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            . ضربات قلب غير منتظم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            . احتقان أنف مرتد عند إيقافها فجاةً .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B99-6098-4EFE-9104-10F58BAD06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2</a:t>
            </a: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.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ntihistamin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pheniramine(Chlor-Trimeton)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yltoloxamine(Comhist-LA)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آلية التاثير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. تتنافس مع الهيستامين على المستقبلات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. تمنع تنبيه منعكس العطاس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eeze ref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       بالهيستامين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. تُنقص خواصها المضادة للموسكارين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  الافرازات القصبية وتزيد توسّع القصب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A1A-4EB7-4840-8A32-BC9FCF5FC4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التاثيرات الجانبي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. تسبب مضادات الهيستامين هذه شلل الحركة الهدب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المخاطية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ociliary escalator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. التأثيرات الجانبية المضادة للموسكارين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. التركين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dation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5AC-B029-48AF-8EF2-2DED3B75C9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. مضادات السعال 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ntitussiv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odeine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يثبط السعال بتنبيه المستقبلات  ميو  </a:t>
            </a:r>
            <a:r>
              <a:rPr b="0" lang="ar-SA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في مركز السعال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gh cen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. يستعمل مثبطاً للسعال ومسكناً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ge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7F3-3821-48E1-BE10-CA526A6281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- التأثيرات الجانبي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. الغثيان والقيا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. الامساك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ipation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بتنبيه </a:t>
            </a:r>
            <a:r>
              <a:rPr b="0" lang="ar-SA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في الـ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T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فينق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الحركي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. الإدمان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i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. إطلاق الهيستامين فتضيق القصبات وتتوسع الأوعي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ويزداد إنتاج المخاط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us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8D7-77E1-4FF1-AADA-13CFBB3D959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extromethorphan(Robitussin-D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يستعمل كمثبط للسعال ولا يسبب الإدمان بالجرعات  العلاج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أقل إحداثاً للإمساك من الكوديين. يعمل بآليات أخرى في جذع الدماغ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التأثيرات الجانب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يحرر الهيستامين أقل من الكوديي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الهلاوِس بالجرعة الزائ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0CB-9E75-4856-9EE1-04910EE8717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rbetabentane (Rynatuss)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- يثبط السعال الحاد الناتج عن العداوى التنفسية العليا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- له تأثير مشابه للأتروبين وتأثير مخدر موضعي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الاستعمال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 - بجرعات قليلة عند الأطفال . إذ تكون الأفيونات والدكستروميثورفان مضادة استطباب لضب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السعال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التاثيرات الجانبي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تاثيرات مضادات الموسكارين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E05-9168-43E9-A448-73C29F4DF9A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ramiphen ethanedisulfonate(Tuss-Ade)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- مضاد للسعال . يستعمل مثل سابقه وله آثاره الجانب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ramiphen- hydrochloride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- يستعمل في داء باركنسون وهو حال للتشنج تصنيعي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C58-5FD6-4BC6-8B09-76B900FF0F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hlophedianol (Ulone )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- مضاد للسعال متعلق كيميائياً بمضادات الهيستامين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- يستعمل مثل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etabentan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وله نفس آثاره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الجانبية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4BCD-7C32-4DFB-8213-1FC18C42C4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ar-SA" sz="32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.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ar-SA" sz="3200" spc="-1" strike="noStrike" u="sng">
                <a:solidFill>
                  <a:srgbClr val="ffcc66"/>
                </a:solidFill>
                <a:uFillTx/>
                <a:latin typeface="Times New Roman"/>
                <a:cs typeface="Times New Roman"/>
              </a:rPr>
              <a:t>الأدوية المضادة للالتهاب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                                  </a:t>
            </a:r>
            <a:r>
              <a:rPr b="0" lang="ar-SA" sz="32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Anti-inflammatory drugs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. الكورتيكوستيرويدات الضبوبي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erosol  corticosteroid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ticaso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lomethaso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ب . مثبطات انخساف الخلايا البدين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t cell degranulation inhibitor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molyn  sodiu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docrom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6B5A-B0B9-48D7-B44E-02E65D4C7B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66"/>
                </a:solidFill>
                <a:uFillTx/>
                <a:latin typeface="Arial"/>
              </a:rPr>
              <a:t>3</a:t>
            </a:r>
            <a:r>
              <a:rPr b="0" lang="ar-SA" sz="3200" spc="-1" strike="noStrike" u="sng">
                <a:solidFill>
                  <a:srgbClr val="ffcc66"/>
                </a:solidFill>
                <a:uFillTx/>
                <a:latin typeface="Arial"/>
              </a:rPr>
              <a:t>. ضواد الليكوتريينات  </a:t>
            </a:r>
            <a:br>
              <a:rPr sz="3200"/>
            </a:b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Leukotriene antagonis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أ . ضواد مستقبلات الليكوتريين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ukotriene receptor antagonists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firlukast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telukast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ب. مثبطات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SA" sz="3200" spc="-1" strike="noStrike" baseline="30000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- ليبوكسيجينا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Lipooxygenase  inhibitors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eleuton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23D-8BB7-466C-8C93-8463185D38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ناهضات / منبهات البتا</a:t>
            </a:r>
            <a:r>
              <a:rPr b="0" lang="ar-SA" sz="32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 الأدرينرجية</a:t>
            </a: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2- ADRENERGIC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GONIS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آلية التأثير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chanism  of  Ac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يسبب تنبيه  </a:t>
            </a:r>
            <a:r>
              <a:rPr b="0" lang="ar-SA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زياد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الأدينيل سيكلاز ) الذي يزيد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P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في العضلات الملساء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ooth muscl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ؤدياً إلى توسع القصبات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odil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الاستعمالات السريرية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inical  Use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الربو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hm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معالجة فرط بوتاسيوم الد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erkalemi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تسبّب دخو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إلى الخلايا ) وارخاء تقلصات الرح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eri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F84-B8E9-41E3-88F9-CC18BC3E0C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التأثيرات الجانبية 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ide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ffec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التحم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leranc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بسبب التنظيم نزولاً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-regulatio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للمستقبلات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تلاحظ بعض تاثيرات تنبيه </a:t>
            </a:r>
            <a:r>
              <a:rPr b="0" lang="ar-SA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مثل زيادة سرعة القلب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رعاش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mo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بسبب تنبيه المستقبلات </a:t>
            </a:r>
            <a:r>
              <a:rPr b="0" lang="ar-SA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في العضلات     الهيكلية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eletal muscl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نرفز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rvousnes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والاستثارة العصبية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ضعف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nes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دوخة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zzines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تورّد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shing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الوجه والجلد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غثيان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والقياء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miting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C9A-ED73-4FD1-8983-B4DB90E0B5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منبهات البيتا  – اللاانتقائية</a:t>
            </a: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  </a:t>
            </a:r>
            <a:br>
              <a:rPr sz="4000"/>
            </a:b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Nonselective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Symbol"/>
                <a:ea typeface="Symbol"/>
              </a:rPr>
              <a:t>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- Agonis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soproterenol ( Isuprel )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- الحرائك الدوائية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rmacokinet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بالاستنشاق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alation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O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قصيرين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في النسج الموضعية القصبية وفي الكبد بعد الاعطاء الوريدي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يُطرَح الدواء الأصلي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 drug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مستقبلاته في البول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A22-DAA5-442C-9BEA-BD63A77F0E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* منبهات البيتا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Symbol"/>
                <a:ea typeface="Symbol"/>
              </a:rPr>
              <a:t>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الانتقائية 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selectiv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lbuterol (Proventil , Ventolin)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الحرائك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استنشاق 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( في الفم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O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قصيرين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في الكبد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يطرح الدواء الأصلي ومستقبلاته في البول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840-1547-49AD-A400-FCB5559641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03:45:31Z</dcterms:created>
  <dc:creator>tarek</dc:creator>
  <dc:description/>
  <dc:language>en-US</dc:language>
  <cp:lastModifiedBy>tarek</cp:lastModifiedBy>
  <dcterms:modified xsi:type="dcterms:W3CDTF">2005-09-26T00:02:01Z</dcterms:modified>
  <cp:revision>46</cp:revision>
  <dc:subject/>
  <dc:title>أدوية جهاز التنفس RESPIRATORY DRUGS</dc:title>
</cp:coreProperties>
</file>