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7EC3-5BF1-4D43-B6D7-310DD19E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8E34-F999-44C6-969E-43F46959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93DC-5AD1-46A0-92B3-EE912E20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B8F-47C4-48AE-85F8-5987EA5D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F48E-402D-43AC-9DB0-6E333839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86C9-18AE-4819-ADF7-86BB9263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2367-E3C6-43E8-B82C-79F96422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5DDC-BFF2-4831-A0FA-6E7302E2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2993-8994-4E38-9283-0512D0B1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19CB-1CEC-49A5-8AB7-6FC76FFB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F316-E3FB-4D6F-90C4-592C8106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E176-55FA-421E-95B5-21CBEAB6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F4CC-670C-4D44-9CFE-B1AF5270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CAB5-D3F6-4B9F-97AA-633902F1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918D-7764-4A30-8531-BFE813C9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EEE0-BA2A-4FED-A27A-AD9EFACB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F269-8BBA-4567-856A-24D40D4C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E74-1105-4C70-857E-E6EBC644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C210-93EC-413E-AED0-9DB868E0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AA40-32A1-42CF-8F8B-A5E6361F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13C6-8501-42E7-B6CB-EB56779D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7D40-ADB2-4119-A34E-031D9BC1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C8C3-71D4-4E0B-8ECC-D0BDE973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BB13-B694-4EB6-9324-4A2D8CDB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2AA9-65C9-46A0-AFD0-2562EECAED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6A9E-4E1F-4CB5-B345-EDB6D2357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cc66"/>
                </a:solidFill>
                <a:latin typeface="Arial"/>
              </a:rPr>
              <a:t>أدوية</a:t>
            </a:r>
            <a:r>
              <a:rPr b="0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cc66"/>
                </a:solidFill>
                <a:latin typeface="Arial"/>
              </a:rPr>
              <a:t>جهاز</a:t>
            </a:r>
            <a:r>
              <a:rPr b="0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cc66"/>
                </a:solidFill>
                <a:latin typeface="Arial"/>
              </a:rPr>
              <a:t>التنفس</a:t>
            </a:r>
            <a:r>
              <a:rPr b="0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RESPIRATORY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DRUG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   الأستاذ الدكتور عبد الناصر عمرين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كلية الصيدلة – قسم علم تاثير الأدوية والسمو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               جامعة دمش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9DB7-A9D4-4F09-84E4-852A580D96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*  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soetharin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استنشا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و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O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قصير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يستقلب بالـــ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T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ومن ثم في الكبد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يطرح الدواء الأصلي ومستقبلاته في البول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*</a:t>
            </a:r>
            <a:r>
              <a:rPr b="0" lang="ar-SA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Metaproterenol ( Alupent , Metaprel)</a:t>
            </a:r>
            <a:r>
              <a:rPr b="0" lang="ar-SA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: استنشاق و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و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O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قصيرين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يستقلب على نحو كبير في المرور الأول بالكبد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- pass hepatic metabolis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يطرح الدواء الأصل ومستقبلاته في البول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FA9-6E5F-447C-A9B1-47C7083CF0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*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rbutaline ( Brethine)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استنشاق 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V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و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O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قصيرين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يستقلب جزئياً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al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في الكبد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يطرح الأصل ومستقبلاته في البول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ormoterol( Foradil)</a:t>
            </a: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استنشا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O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قصيرين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في الكب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يطرح الأصل ومستقبلاته في البول والبراز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E93C-6D8E-4D60-86D6-6C1B271488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* 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almeterol ( Servent 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alation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A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طويلة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في الكبد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patic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تطرح المستقبلات في البراز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834B-7CA6-45D8-B917-319500A804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66"/>
                </a:solidFill>
                <a:uFillTx/>
                <a:latin typeface="Arial"/>
              </a:rPr>
              <a:t>* ضواد الموسكارينية  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Muscarinic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Antagonist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Ipratropium (Atrovent)</a:t>
            </a: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: إنشاقاً ( متأين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onized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جداً في الأسناخ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veoli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, فلا يُمتَصّ ) وفي الأنف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sal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: في الكبد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: يطرح الأصل ومستقلباته في البول والبراز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Times New Roman"/>
              </a:rPr>
              <a:t>- آلية التأثير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 يمنع تضيُّق القصبات المتواسط بالعصب المبهم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gal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Times New Roman"/>
              </a:rPr>
              <a:t> -الاستعمالات السريرية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. الربو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thma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Times New Roman"/>
              </a:rPr>
              <a:t>-  التاثيرات الجانبية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. قليلة بسبب نقص امتصاصه المجموعي 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685C-311D-4675-A696-CF0199C2D1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66"/>
                </a:solidFill>
                <a:latin typeface="Arial"/>
              </a:rPr>
              <a:t>*   الميثيل زانثين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ophylline ( Elixophyllin ,Slo-phyllin,Uniphyl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Theo-Dur , Theo24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V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في الكب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يطرح الأصل ومستقلباته في البول 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-  آلية التاثير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يثبط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D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فيزيد مستويات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إن زيادة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في الخلايا البدينة يُنقِص إنخسافها </a:t>
            </a:r>
            <a:r>
              <a:rPr b="0" lang="ar-SA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granulation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2182-E9CB-43B1-A716-2A3597B483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- الاستعمالات السريرية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موسِّع قصبي في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D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( كان كثير الاستعمال في علاج الربو )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- التاثيرات الجانبية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de  Effects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 :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تهيج السبيل المعدي المعوي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T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منبه للــ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N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( قد يسبب اختلاجات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izure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يدخل عضلة القلب ويزيد القلوصية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onotropy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والسرعة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notropy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يقوي تقلّص العضلات الهيكلية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eletal muscl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8A24-72C1-4A84-9299-3C42B43326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66"/>
                </a:solidFill>
                <a:uFillTx/>
                <a:latin typeface="Arial"/>
              </a:rPr>
              <a:t>* الكورتيكوستيرويدات الضبوبية 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Aerosol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Corticosteroids</a:t>
            </a:r>
            <a:r>
              <a:rPr b="0" lang="ar-SA" sz="40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-  آلية تأثيرها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ذات خواص مضادة للالتهاب ( ربما عبر تأثيراتها على الخلايا البدينة ) ومقبضة للأوعية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soconstriction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-  استعمالاتها السريرية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الربو ( تحافظ على سالكية المسلك الهوائي أثناء الالتهاب الآجل )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تسيطر على مراحل الالتهاب الحادّة والآجلة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2A38-FBA2-4E24-AEB7-6B44D2615A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  <a:ea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1</a:t>
            </a:r>
            <a:r>
              <a:rPr b="1" i="1" lang="ar-SA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*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Fluticasone(Flov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إنشاقا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يستقلب الجزء الممتص في الكبد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يُطرح معظم المستقلبات في البراز والباقي في البول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- التأثيرات الجانبية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urg-Strauss syndro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hinitis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2C54-0FDA-44C7-908F-35FFE5BC2F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  <a:ea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600" spc="-1" strike="noStrike">
                <a:solidFill>
                  <a:srgbClr val="ffcc66"/>
                </a:solidFill>
                <a:latin typeface="Times New Roman"/>
              </a:rPr>
              <a:t>2</a:t>
            </a:r>
            <a:r>
              <a:rPr b="1" i="1" lang="ar-SA" sz="32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Beclomethasone(Vancena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anasal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- التأثيرات الجانبي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- لزعة/حرقة أنفية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- صداع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dache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F24A-971B-4F0E-BC76-35C02F9913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66"/>
                </a:solidFill>
                <a:uFillTx/>
                <a:latin typeface="Arial"/>
              </a:rPr>
              <a:t>* مثبطات انخساف الخلايا البدينة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Mast Cell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Degranulation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Inhibitor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Cromolyn sodium ( Intal,Nasalcrom)</a:t>
            </a:r>
            <a:r>
              <a:rPr b="0" lang="ar-SA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66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Nedocromil(Tilade)</a:t>
            </a:r>
            <a:r>
              <a:rPr b="0" lang="ar-SA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- حرائكهما الدوائية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وانشاقاً ؛  تأثيرهما موضعي لقلّة امتصاصهما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يطرحان كما هما بدون تبدل , في الصفراء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l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والبول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- آلية التأثير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. منع إطلاق الليكوتريينات والهيستامين من الخلايا البدين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DD87-FD28-4F6D-89A1-49955464EF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. </a:t>
            </a:r>
            <a:r>
              <a:rPr b="0" lang="ar-SA" sz="4400" spc="-1" strike="noStrike">
                <a:solidFill>
                  <a:srgbClr val="ffcc66"/>
                </a:solidFill>
                <a:latin typeface="Arial"/>
              </a:rPr>
              <a:t>أدوية الربو 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Asthma Drug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1</a:t>
            </a:r>
            <a:r>
              <a:rPr b="0" lang="ar-SA" sz="2800" spc="-1" strike="noStrike" u="sng">
                <a:solidFill>
                  <a:srgbClr val="ffcc66"/>
                </a:solidFill>
                <a:uFillTx/>
                <a:latin typeface="Times New Roman"/>
              </a:rPr>
              <a:t>- موسعات القصبات  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Bronchodi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ar-SA" sz="2800" spc="-1" strike="noStrike">
                <a:solidFill>
                  <a:srgbClr val="ffffff"/>
                </a:solidFill>
                <a:latin typeface="Times New Roman"/>
              </a:rPr>
              <a:t>أ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ar-SA" sz="2400" spc="-1" strike="noStrike">
                <a:solidFill>
                  <a:srgbClr val="ffffff"/>
                </a:solidFill>
                <a:latin typeface="Times New Roman"/>
              </a:rPr>
              <a:t>ناهضات / منبهات  البيتا</a:t>
            </a:r>
            <a:r>
              <a:rPr b="0" i="1" lang="ar-SA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ar-SA" sz="2400" spc="-1" strike="noStrike">
                <a:solidFill>
                  <a:srgbClr val="ffffff"/>
                </a:solidFill>
                <a:latin typeface="Times New Roman"/>
              </a:rPr>
              <a:t> الأدرينرجي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- Adrenergic agonists </a:t>
            </a:r>
            <a:r>
              <a:rPr b="0" i="1" lang="ar-SA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oproterenol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bute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oethari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aproterenol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butali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oterol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lmeterol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37DB-A060-40F9-A43C-0F54703C44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- الاستعمالات السريري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. للوقاية من الربو القصبي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. للوقاية من التهاب الأنف الأرجي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. يحصران الاستجابتان المبكرة والآجلة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- التاثيرات الجانبية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. السعال بسبب التهيج بإعطائها على شكل حلالات/ضبو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925-44F7-47BE-823C-25E82FAB20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66"/>
                </a:solidFill>
                <a:uFillTx/>
                <a:latin typeface="Arial"/>
              </a:rPr>
              <a:t>* ضواد مستقبلة الليكوتريين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Leukotriene Receptor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Antagonis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Zafirlukast (Accola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في الكبد بالسيتوكروم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45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يطرح معظمه في البراز , والباقي في البول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- آلية التأثير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. يحصر مستقبلة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T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و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-  الاستعمالات السريرية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. للوقاية من هجمات التشنج القصبي الحادة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ute bronchospas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B4DF-85E7-44A6-ADD8-C0725FF899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 التأثيرات الجانبية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الصداع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dach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الغثيان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use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Montelukast(Singulair)</a:t>
            </a:r>
            <a:r>
              <a:rPr b="0" lang="ar-SA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له نفس حرائك واستعمالات وألية السابق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- التأثيرات الجانبية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. الصدا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. الم البطن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dominal  pain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urg-Strauss 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C5DE-6856-47C5-B3F4-593739CD6A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- مثبطات </a:t>
            </a:r>
            <a:r>
              <a:rPr b="0" lang="ar-SA" sz="36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5</a:t>
            </a:r>
            <a:r>
              <a:rPr b="0" lang="ar-SA" sz="2400" spc="-1" strike="noStrike" u="sng" baseline="36000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/ </a:t>
            </a:r>
            <a:r>
              <a:rPr b="0" lang="ar-SA" sz="36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- ليبوكسيجيناز 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5</a:t>
            </a:r>
            <a:r>
              <a:rPr b="0" lang="en-US" sz="3200" spc="-1" strike="noStrike" u="sng" baseline="36000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 - </a:t>
            </a:r>
            <a:r>
              <a:rPr b="0" lang="en-US" sz="36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Lipooxygenase Inhibitors</a:t>
            </a:r>
            <a:r>
              <a:rPr b="0" lang="ar-SA" sz="36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Zeleuton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(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Zyflo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0" lang="ar-SA" sz="20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 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 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في الكبد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 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تطرح  المستقلبات في البول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Times New Roman"/>
              </a:rPr>
              <a:t>-  آلية التأثير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يمنع تكوين الليكوتربينات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Times New Roman"/>
              </a:rPr>
              <a:t>-  الاستعمال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 . للوقاية من هجمات التشنج القصبي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Times New Roman"/>
              </a:rPr>
              <a:t>-  التأثيرات الجانبية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 . عسر الهضم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yspepsia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 . الاسهال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rrhea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 . الصداع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d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AE76-FBFA-4058-849A-3D90FF2E95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I</a:t>
            </a:r>
            <a:r>
              <a:rPr b="0" lang="ar-SA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.أدوية الزكام /البرد/                        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Cold  Medications</a:t>
            </a:r>
            <a:r>
              <a:rPr b="0" lang="ar-SA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- التصنيف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cc66"/>
                </a:solidFill>
                <a:uFillTx/>
                <a:latin typeface="Times New Roman"/>
              </a:rPr>
              <a:t>1</a:t>
            </a:r>
            <a:r>
              <a:rPr b="0" lang="ar-SA" sz="2800" spc="-1" strike="noStrike" u="sng">
                <a:solidFill>
                  <a:srgbClr val="ffcc66"/>
                </a:solidFill>
                <a:uFillTx/>
                <a:latin typeface="Times New Roman"/>
              </a:rPr>
              <a:t>-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 مزيلات احتقان الأنف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asal decongestants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ffffff"/>
                </a:solidFill>
                <a:latin typeface="Times New Roman"/>
              </a:rPr>
              <a:t>  أ. مزيلات الاحتقان المجموعية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ystemic decongestants</a:t>
            </a:r>
            <a:r>
              <a:rPr b="0" i="1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   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seudoephedrin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ffffff"/>
                </a:solidFill>
                <a:latin typeface="Times New Roman"/>
              </a:rPr>
              <a:t> ب. ناهضات الألفا </a:t>
            </a:r>
            <a:r>
              <a:rPr b="0" i="1" lang="ar-SA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ar-SA" sz="2800" spc="-1" strike="noStrike">
                <a:solidFill>
                  <a:srgbClr val="ffffff"/>
                </a:solidFill>
                <a:latin typeface="Times New Roman"/>
              </a:rPr>
              <a:t> الموضعية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pical </a:t>
            </a:r>
            <a:r>
              <a:rPr b="0" i="1" lang="ar-SA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- agon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xymetazolin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phazoli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enylephrin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0593-8EE6-4C38-A8CA-E89B890530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cc66"/>
                </a:solidFill>
                <a:uFillTx/>
                <a:latin typeface="Times New Roman"/>
              </a:rPr>
              <a:t>2</a:t>
            </a:r>
            <a:r>
              <a:rPr b="0" lang="ar-SA" sz="2800" spc="-1" strike="noStrike" u="sng">
                <a:solidFill>
                  <a:srgbClr val="ffcc66"/>
                </a:solidFill>
                <a:uFillTx/>
                <a:latin typeface="Times New Roman"/>
              </a:rPr>
              <a:t>-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ntihistamines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lorpheniramine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yltoloxamine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1A96-074D-4626-B637-9C8668CC60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cc66"/>
                </a:solidFill>
                <a:uFillTx/>
                <a:latin typeface="Times New Roman"/>
              </a:rPr>
              <a:t>3</a:t>
            </a:r>
            <a:r>
              <a:rPr b="0" lang="ar-SA" sz="2800" spc="-1" strike="noStrike" u="sng">
                <a:solidFill>
                  <a:srgbClr val="ffcc66"/>
                </a:solidFill>
                <a:uFillTx/>
                <a:latin typeface="Times New Roman"/>
              </a:rPr>
              <a:t>-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 مضادات السعال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titussives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ffffff"/>
                </a:solidFill>
                <a:latin typeface="Times New Roman"/>
              </a:rPr>
              <a:t>   أ. المؤثرة مركزيا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 - الأفيونية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iat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 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in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                             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xtromethorphan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- اللاأفيونية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opiat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              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etapentan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              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amiphen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              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lophedianol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800" spc="-1" strike="noStrike">
                <a:solidFill>
                  <a:srgbClr val="ffffff"/>
                </a:solidFill>
                <a:latin typeface="Times New Roman"/>
              </a:rPr>
              <a:t>   ب. المؤثرة محيطياً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eripherally  acting</a:t>
            </a:r>
            <a:r>
              <a:rPr b="0" i="1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  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zonatat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70AE-3DE8-4307-A47C-3AAB1187FB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cc66"/>
                </a:solidFill>
                <a:uFillTx/>
                <a:latin typeface="Times New Roman"/>
              </a:rPr>
              <a:t>4</a:t>
            </a:r>
            <a:r>
              <a:rPr b="0" lang="ar-SA" sz="2800" spc="-1" strike="noStrike" u="sng">
                <a:solidFill>
                  <a:srgbClr val="ffcc66"/>
                </a:solidFill>
                <a:uFillTx/>
                <a:latin typeface="Times New Roman"/>
              </a:rPr>
              <a:t>.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 المقشّعات / طاردات البلغم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ctorants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aifenesin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419-F137-4E0C-A592-AB65B38019C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ar-SA" sz="4400" spc="-1" strike="noStrike">
                <a:solidFill>
                  <a:srgbClr val="ffcc66"/>
                </a:solidFill>
                <a:latin typeface="Arial"/>
              </a:rPr>
              <a:t>- مزيلات احتقان الأنف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cc66"/>
                </a:solidFill>
                <a:uFillTx/>
                <a:latin typeface="Times New Roman"/>
              </a:rPr>
              <a:t>أ.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 مزيلات الإحتقان المجموعية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66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seudoephedrine( Sudafed)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- آلية التأثير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 تضييق الأوعية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soconstriction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في المخاطية الأنفي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الاستعمال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:  . إن تضييق الأوعية التنفسية يُنقِص احتقان الأنف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- التأثيرات الجانبية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 مضادات استطباب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indicated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عند مرضى فرط الضغط وبعد احتشاء عضلة القلب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ocardial infraction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   أو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thyroidis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لأنه يزيد ضغط الدم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A230-A9C7-46C5-94B1-C036B5F18D5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ar-SA" sz="2800" spc="-1" strike="noStrike" u="sng">
                <a:solidFill>
                  <a:srgbClr val="ffcc66"/>
                </a:solidFill>
                <a:uFillTx/>
                <a:latin typeface="Times New Roman"/>
              </a:rPr>
              <a:t>ب.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 مزيلات الاحتقان الموضعية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pical Decongestants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xymetazoline(Afrin,Dristan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phazoline(Privine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enylephrine(Neo-Synephrine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- تعمل هذه الأدوية بتضييق الأوعية في المخاطية الأنفية فتُنقِص التهاب المخاطية وتقلل تيبس الأنف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al stuffines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- تستعمل لإنقاص احتقان الأنف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126A-6ED6-4494-9A8C-87FB6B8515B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Times New Roman"/>
              </a:rPr>
              <a:t>ب. ضواد الموسكارينية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carinic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agonists</a:t>
            </a:r>
            <a:r>
              <a:rPr b="0" i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i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ratrop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Times New Roman"/>
              </a:rPr>
              <a:t>جـ . الميثيل زانتين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ethyl   xanthine</a:t>
            </a:r>
            <a:r>
              <a:rPr b="0" i="1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ar-S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ophylline</a:t>
            </a:r>
            <a:r>
              <a:rPr b="0" i="1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9BE-843D-46BE-9979-443FA16CB5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-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تأثيراتها الجانبية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 . صداع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dac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                . دوخة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zz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                . رعاش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m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                . ضربات قلب غير منتظم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                . احتقان أنف مرتد عند إيقافها فجاةً .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0D3-D632-4F40-8660-5C2F721D6E9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2</a:t>
            </a:r>
            <a:r>
              <a:rPr b="0" lang="ar-SA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.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Antihistamin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lorpheniramine(Chlor-Trimeton)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yltoloxamine(Comhist-LA)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آلية التاثير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. تتنافس مع الهيستامين على المستقبلات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    . تمنع تنبيه منعكس العطاس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eeze ref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           بالهيستامين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    . تُنقص خواصها المضادة للموسكارين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      الافرازات القصبية وتزيد توسّع القصب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B7B6-1021-4565-85BF-02BA17B7B40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التاثيرات الجانبية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. تسبب مضادات الهيستامين هذه شلل الحركة الهدب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المخاطية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ociliary escalator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. التأثيرات الجانبية المضادة للموسكارين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. التركين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dation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8EDA-8508-425E-83F6-A074C82378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ar-SA" sz="4000" spc="-1" strike="noStrike">
                <a:solidFill>
                  <a:srgbClr val="ffcc66"/>
                </a:solidFill>
                <a:latin typeface="Arial"/>
              </a:rPr>
              <a:t>. مضادات السعال 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Antitussiv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*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odeine</a:t>
            </a: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يثبط السعال بتنبيه المستقبلات  ميو  </a:t>
            </a:r>
            <a:r>
              <a:rPr b="0" lang="ar-SA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في مركز السعال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gh cen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. يستعمل مثبطاً للسعال ومسكناً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ges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77A8-5D3C-4B91-9388-2F5480EFBD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- التأثيرات الجانبية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. الغثيان والقياء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. الامساك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ipation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بتنبيه </a:t>
            </a:r>
            <a:r>
              <a:rPr b="0" lang="ar-SA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في الـ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T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فينق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الحركية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. الإدمان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i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. إطلاق الهيستامين فتضيق القصبات وتتوسع الأوعية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ويزداد إنتاج المخاط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us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6DD-0688-4703-A403-0F24DCF425C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extromethorphan(Robitussin-D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. يستعمل كمثبط للسعال ولا يسبب الإدمان بالجرعات  العلاج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. أقل إحداثاً للإمساك من الكوديين. يعمل بآليات أخرى في جذع الدماغ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التأثيرات الجانبي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. يحرر الهيستامين أقل من الكوديي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. الهلاوِس بالجرعة الزائ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39D0-9F70-47AA-BCF1-B886E6A752F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arbetabentane (Rynatuss)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- يثبط السعال الحاد الناتج عن العداوى التنفسية العليا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- له تأثير مشابه للأتروبين وتأثير مخدر موضعي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الاستعمال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 - بجرعات قليلة عند الأطفال . إذ تكون الأفيونات والدكستروميثورفان مضادة استطباب لضب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السعال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التاثيرات الجانبية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تاثيرات مضادات الموسكارين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11BA-9D35-439F-9122-D7E982F4EBE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aramiphen ethanedisulfonate(Tuss-Ade)</a:t>
            </a: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- مضاد للسعال . يستعمل مثل سابقه وله آثاره الجانب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aramiphen- hydrochloride</a:t>
            </a: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- يستعمل في داء باركنسون وهو حال للتشنج تصنيعي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71A1-4B46-415C-B2D3-FF93D7CDBD0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*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hlophedianol (Ulone )</a:t>
            </a: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- مضاد للسعال متعلق كيميائياً بمضادات الهيستامين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- يستعمل مثل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etabentane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وله نفس آثاره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الجانبية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1FD1-0F3D-4136-A244-0237CBDF49A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lang="ar-SA" sz="32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.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ar-SA" sz="3200" spc="-1" strike="noStrike" u="sng">
                <a:solidFill>
                  <a:srgbClr val="ffcc66"/>
                </a:solidFill>
                <a:uFillTx/>
                <a:latin typeface="Times New Roman"/>
                <a:cs typeface="Times New Roman"/>
              </a:rPr>
              <a:t>الأدوية المضادة للالتهاب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                                  </a:t>
            </a:r>
            <a:r>
              <a:rPr b="0" lang="ar-SA" sz="32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Anti-inflammatory drugs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. الكورتيكوستيرويدات الضبوبي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erosol  corticosteroid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uticason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lomethason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ب . مثبطات انخساف الخلايا البدين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t cell degranulation inhibitor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molyn  sodiu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docrom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C340-9970-4E59-BC8F-CD11D83530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66"/>
                </a:solidFill>
                <a:uFillTx/>
                <a:latin typeface="Arial"/>
              </a:rPr>
              <a:t>3</a:t>
            </a:r>
            <a:r>
              <a:rPr b="0" lang="ar-SA" sz="3200" spc="-1" strike="noStrike" u="sng">
                <a:solidFill>
                  <a:srgbClr val="ffcc66"/>
                </a:solidFill>
                <a:uFillTx/>
                <a:latin typeface="Arial"/>
              </a:rPr>
              <a:t>. ضواد الليكوتريينات  </a:t>
            </a:r>
            <a:br>
              <a:rPr sz="3200"/>
            </a:br>
            <a:r>
              <a:rPr b="0" lang="en-US" sz="3200" spc="-1" strike="noStrike" u="sng">
                <a:solidFill>
                  <a:srgbClr val="ffcc66"/>
                </a:solidFill>
                <a:uFillTx/>
                <a:latin typeface="Arial"/>
              </a:rPr>
              <a:t>Leukotriene antagonis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أ . ضواد مستقبلات الليكوتريين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ukotriene receptor antagonists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firlukast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telukast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ب. مثبطات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ar-SA" sz="3200" spc="-1" strike="noStrike" baseline="30000">
                <a:solidFill>
                  <a:srgbClr val="ffffff"/>
                </a:solidFill>
                <a:latin typeface="Times New Roman"/>
              </a:rPr>
              <a:t>/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- ليبوكسيجينا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Lipooxygenase  inhibitors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eleuton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20AB-290C-48C2-9E1F-A8E4812DED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0" lang="ar-SA" sz="4000" spc="-1" strike="noStrike">
                <a:solidFill>
                  <a:srgbClr val="ffcc66"/>
                </a:solidFill>
                <a:latin typeface="Arial"/>
              </a:rPr>
              <a:t>ناهضات / منبهات البتا</a:t>
            </a:r>
            <a:r>
              <a:rPr b="0" lang="ar-SA" sz="32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ar-SA" sz="4000" spc="-1" strike="noStrike">
                <a:solidFill>
                  <a:srgbClr val="ffcc66"/>
                </a:solidFill>
                <a:latin typeface="Arial"/>
              </a:rPr>
              <a:t> الأدرينرجية</a:t>
            </a:r>
            <a:r>
              <a:rPr b="0" lang="ar-SA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ar-SA" sz="4000" spc="-1" strike="noStrike">
                <a:solidFill>
                  <a:srgbClr val="ffcc66"/>
                </a:solidFill>
                <a:latin typeface="Symbol"/>
                <a:ea typeface="Symbol"/>
              </a:rPr>
              <a:t>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2- ADRENERGIC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AGONIS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آلية التأثير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chanism  of  Actio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 يسبب تنبيه  </a:t>
            </a:r>
            <a:r>
              <a:rPr b="0" lang="ar-SA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زيادة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 الأدينيل سيكلاز ) الذي يزيد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MP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في العضلات الملساء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ooth muscl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مؤدياً إلى توسع القصبات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nchodil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الاستعمالات السريرية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inical  Use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الربو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thm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معالجة فرط بوتاسيوم الدم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erkalemi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 تسبّب دخول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إلى الخلايا ) وارخاء تقلصات الرحم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erin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9FBE-DAFA-451D-AEC7-71F2CF6E78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cc66"/>
                </a:solidFill>
                <a:latin typeface="Arial"/>
              </a:rPr>
              <a:t>التأثيرات الجانبية 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ide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Effec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التحمل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leranc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بسبب التنظيم نزولاً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-regulation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للمستقبلات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تلاحظ بعض تاثيرات تنبيه </a:t>
            </a:r>
            <a:r>
              <a:rPr b="0" lang="ar-SA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مثل زيادة سرعة القلب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R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رعاش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mor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بسبب تنبيه المستقبلات </a:t>
            </a:r>
            <a:r>
              <a:rPr b="0" lang="ar-SA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في العضلات     الهيكلية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eletal muscl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نرفزة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rvousnes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والاستثارة العصبية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ضعف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knes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دوخة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zzines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تورّد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ushing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الوجه والجلد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غثيان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use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والقياء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miting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EAF7-D57D-4E6B-AD52-98577B7B76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66"/>
                </a:solidFill>
                <a:uFillTx/>
                <a:latin typeface="Arial"/>
              </a:rPr>
              <a:t>منبهات البيتا  – اللاانتقائية</a:t>
            </a:r>
            <a:r>
              <a:rPr b="0" lang="ar-SA" sz="4000" spc="-1" strike="noStrike" u="sng">
                <a:solidFill>
                  <a:srgbClr val="ffcc66"/>
                </a:solidFill>
                <a:uFillTx/>
                <a:latin typeface="Arial"/>
              </a:rPr>
              <a:t>  </a:t>
            </a:r>
            <a:br>
              <a:rPr sz="4000"/>
            </a:b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Nonselective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Symbol"/>
                <a:ea typeface="Symbol"/>
              </a:rPr>
              <a:t>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lang="ar-SA" sz="40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- Agonis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Isoproterenol ( Isuprel )</a:t>
            </a: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- الحرائك الدوائية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rmacokinetic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بالاستنشاق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alation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و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A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و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OA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قصيرين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في النسج الموضعية القصبية وفي الكبد بعد الاعطاء الوريدي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يُطرَح الدواء الأصلي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 drug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ومستقبلاته في البول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EC3C-0C39-4131-8A1C-897DFA8074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66"/>
                </a:solidFill>
                <a:uFillTx/>
                <a:latin typeface="Arial"/>
              </a:rPr>
              <a:t>* منبهات البيتا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Symbol"/>
                <a:ea typeface="Symbol"/>
              </a:rPr>
              <a:t>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r>
              <a:rPr b="0" lang="ar-SA" sz="4000" spc="-1" strike="noStrike" u="sng">
                <a:solidFill>
                  <a:srgbClr val="ffcc66"/>
                </a:solidFill>
                <a:uFillTx/>
                <a:latin typeface="Arial"/>
              </a:rPr>
              <a:t>الانتقائية 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selectiv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* 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lbuterol (Proventil , Ventolin)</a:t>
            </a:r>
            <a:r>
              <a:rPr b="0" lang="ar-SA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Times New Roman"/>
              </a:rPr>
              <a:t>الحرائك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استنشاق و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( في الفم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A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و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OA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قصيرين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في الكبد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: يطرح الدواء الأصلي ومستقبلاته في البول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ne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7380-2B0D-49E4-B7D7-727614C217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03:45:31Z</dcterms:created>
  <dc:creator>tarek</dc:creator>
  <dc:description/>
  <dc:language>en-US</dc:language>
  <cp:lastModifiedBy>tarek</cp:lastModifiedBy>
  <dcterms:modified xsi:type="dcterms:W3CDTF">2005-09-26T00:02:01Z</dcterms:modified>
  <cp:revision>46</cp:revision>
  <dc:subject/>
  <dc:title>أدوية جهاز التنفس RESPIRATORY DRUGS</dc:title>
</cp:coreProperties>
</file>