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630988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1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02918BC5-ABD7-42B5-85A0-C6D10087F4E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cking robot control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600200"/>
            <a:ext cx="678204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95324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x and line dia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abstract - they do not show the nature of component relationships nor the externally visible properties of the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useful for communication with stakeholders and for project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 deci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design is a creative process so the process differs depending on the type of system being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a number of common decisions span all design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 deci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ere a generic application architecture that can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e system be distribu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chitectural styles are appropri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pproach will be used to structure the syst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e system be decomposed into modu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control strategy should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e architectural design be evalu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should the architecture be docume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e re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s in the same domain often have similar architectures that reflect domain concep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product lines are built around a core architecture with variants that satisfy particular customer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architectures are covered in Chapter 13 and product lines in Chapter 1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chitectural model of a system may conform to a generic architectural model or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awareness of these styles can simplify the problem of defining system archit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most large systems are heterogeneous and do not follow a single architectural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document an architectural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c structural model that shows the major system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process model that shows the process structure of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model that defines sub-system inter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onships model such as a data-flow model that shows sub-system relation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bution model that shows how sub-systems are distributed across compu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organis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 the basic strategy that is used to structure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organisational styles are widely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ared data repository sty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ared services and servers sty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bstract machine or layered sty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positor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systems must exchange data. This may be done in two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d data is held in a central database or repository and may be accessed by all sub-syste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ub-system maintains its own database and passes data explicitly to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large amounts of data are to be shared, the repository model of sharing i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toolset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3911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troduce architectural design and to discuss its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architectural design decisions that have to b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troduce three complementary architectural styles covering organisation, decomposition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iscuss reference architectures are used to communicate and compare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ository model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icient way to share large amounts of dat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s need not be concerned with how data is produced Centralised management e.g. backup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ing model is published as the repository sche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-systems must agree on a repository data model. Inevitably a compromi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evolution is difficult and expensiv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cope for specific management polici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icult to distribute efficient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ent-server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system model which shows how data and processing is distributed across a range of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stand-alone servers which provide specific services such as printing, data managemen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f clients which call on these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which allows clients to access ser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m and picture libr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ent-server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ion of data is straightforwar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s effective use of networked systems. May require cheaper hardw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sy to add new servers or upgrade existing serv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shared data model so sub-systems use different data organisation. Data interchange may be ineffici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ndant management in each serv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central register of names and services - it may be hard to find out what servers and services are avail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stract machine (layered)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model the interfacing of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es the system into a set of layers (or abstract machines) each of which provide a set of serv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s the incremental development of sub-systems in different layers. When a layer interface changes, only the adjacent layer is aff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often artificial to structure systems in this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rsion managemen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716292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ular decomposition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yles of decomposing sub-systems into mod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rigid distinction between system organisation and modular decom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-systems and mod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ub-system is a system in its own right whose operation is independent of the services provided by other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odule is a system component that provides services to other components but would not normally be considered as a separat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ular de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structural level where sub-systems are decomposed into mod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modular decomposition models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object model where the system is decomposed into interacting objec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ipeline or data-flow model where the system is decomposed into functional modules which transform inputs to outpu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possible, decisions about concurrency should be delayed until modules are implem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 the system into a set of loosely coupled objects with well-defined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-oriented decomposition is concerned with identifying object classes, their attributes and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implemented, objects are created from these classes and some control model used to coordinate object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design dec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mposition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oice processing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1028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 model advan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are loosely coupled so their implementation can be modified without affecting other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s may reflect real-world ent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O implementation languages are wide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object interface changes may cause problems and complex entities may be hard to represent as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unction-oriented pipel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al transformations process their inputs to produce outpu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referred to as a pipe and filter model (as in UNIX shel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ants of this approach are very common. When transformations are sequential, this is a batch sequential model which is extensively used in data processing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really suitable for interactiv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oice processing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905120"/>
            <a:ext cx="8458200" cy="396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19760" cy="21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peline model advan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transformation re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 organisation for stakeholder commun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add new transform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ly simple to implement as either a concurrent or sequential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requires a common format for data transfer along the pipeline and difficult to support event-based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ol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concerned with the control flow between sub-systems. Distinct from the system decomposition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ntralis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ub-system has overall responsibility for control and starts and stops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-bas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ub-system can respond to externally generated events from other sub-systems or the system’s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entralise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trol sub-system takes responsibility for managing the execution of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-retur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-down subroutine model where control starts at the top of a subroutine hierarchy and moves downwards. Applicable to sequential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r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ble to concurrent systems. One system component controls the stopping, starting and coordination of other system processes. Can be implemented in sequential systems as a case stat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l-retur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81080"/>
            <a:ext cx="8458200" cy="403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2392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l-time system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00200"/>
            <a:ext cx="76201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17220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-drive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n by externally generated events where the timing of the event is outwith the control of the sub-systems which process the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principal event-driven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adcast models. An event is broadcast to all sub-systems. Any sub-system which can  handle the event may do s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t-driven models. Used in real-time systems where interrupts are detected by an interrupt handler and passed to some other component for process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event driven models include spreadsheets and production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ftwar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sign process for identifying the sub-systems making up a system and the framework for sub-system control and communication is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architectural desig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utput of this design process is a description of th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c0128"/>
                </a:solidFill>
                <a:latin typeface="Arial"/>
              </a:rPr>
              <a:t>software archit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oadcast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in integrating sub-systems on different computers in a net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-systems register an interest in specific events. When these occur, control is transferred to the sub-system which can handle the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policy is not embedded in the event and message handler. Sub-systems decide on events of interest to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, sub-systems don’t know if or when an event will be hand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ective broadca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458200" cy="3200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4678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rupt-drive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real-time systems where fast response to an event is ess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known interrupt types with a handler defined for each ty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type is associated with a memory location and a hardware switch causes transfer to its hand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fast response but complex to program and difficult to vali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rupt-driven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676520"/>
            <a:ext cx="76960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71500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ence archite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models may be specific to some application dom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types of domain-specif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 models which are abstractions from a number of real systems and which encapsulate the principal characteristics of these systems. Covered in Chapter 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models which are more abstract, idealised model. Provide a means of information about that class of system and of comparing different architec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 models are usually bottom-up models; Reference models are top-down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ence archite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models are derived from a study of the application domain rather than from existing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used as a basis for system implementation or to compare different systems. It acts as a standard against which systems can be evalu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I model is a layered model for communication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SI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9246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se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repository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rage and management of data i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integration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ing groups of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managemen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ition and enaction of process mod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ssaging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-tool and tool-environment commun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 interface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interface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CMA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00200"/>
            <a:ext cx="79246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343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ftware architecture is the fundamental framework for structuring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al design decisions include decisions on the application architecture, the distribution and the architectural styles to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architectural models such as a structural model, a control model and a decomposition model may be develo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organisational models include repository models, client-server models and abstract machine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arly stage of the system desig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s the link between specification and design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carried out in parallel with some specification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nvolves identifying major system components and their commun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 decomposition models include object models and pipelining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models include centralised control and event-driven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architectures may be used to communicate domain-specific architectures and to assess and compare architectural de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architectural models may be produced during the desig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odel presents different perspectives on th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e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ise operations to minimise sub-system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a layered architecture with critical assets in inner la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olate safety-critical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 redundant components in the a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ine-grain, self-contained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vantages of explicit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keholder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chitecture may be used as a focus of discussion by system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s that analysis of whether the system can meet its non-functional requirements is pos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-scale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chitecture may be reusable across a range of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chitecture and system character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4000"/>
          </a:bodyPr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ise critical operations and minimise communications. Use large rather than fine-grain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a layered architecture with critical assets in the inner lay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ise safety-critical features in a small number of sub-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 redundant components and mechanisms for fault toler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fine-grain, replaceable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al confli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large-grain components improves performance but reduces maintain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ing redundant data improves availability but makes security more diffic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sing safety-related features usually means more communication so degraded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 structu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with decomposing the system into interacting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rchitectural design is normally expressed as a block diagram presenting an overview of the system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specific models showing how sub-systems share data, are distributed and interface with each other may also be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9T20:33:40Z</dcterms:created>
  <dc:creator/>
  <dc:description/>
  <dc:language>en-US</dc:language>
  <cp:lastModifiedBy>Ian Sommerville</cp:lastModifiedBy>
  <cp:lastPrinted>2009-04-22T19:24:48Z</cp:lastPrinted>
  <dcterms:modified xsi:type="dcterms:W3CDTF">2004-05-06T20:53:57Z</dcterms:modified>
  <cp:revision>29</cp:revision>
  <dc:subject/>
  <dc:title>Architectural Design</dc:title>
</cp:coreProperties>
</file>