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1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0789FAA2-FBF1-4149-BD51-E63D3819FE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ing robot contro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600200"/>
            <a:ext cx="678204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95324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x and line dia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abstract - they do not show the nature of component relationships nor the externally visible properties of the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useful for communication with stakeholders and for project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design is a creative process so the process differs depending on the type of system being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a number of common decisions span all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generic application architecture that can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system be distribu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chitectural styles are appropri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pproach will be used to structure the syst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system be decomposed into modu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ontrol strategy should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architectural design be evalu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architecture be docume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re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in the same domain often have similar architectures that reflect domain conce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product lines are built around a core architecture with variants that satisfy particular custom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architectures are covered in Chapter 13 and product lines in Chapter 1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chitectural model of a system may conform to a generic architectural model or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wareness of these styles can simplify the problem of defining system archit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most large systems are heterogeneous and do not follow a single architectural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ocument an architectural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structural model that shows the major system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process model that shows the process structure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odel that defines sub-system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s model such as a data-flow model that shows sub-system relation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model that shows how sub-systems are distributed across compu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 the basic strategy that is used to structur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organisational styles are widely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ared data repository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ared services and servers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stract machine or layered sty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positor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systems must exchange data. This may be done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data is held in a central database or repository and may be accessed by all sub-syste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ub-system maintains its own database and passes data explicitly to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arge amounts of data are to be shared, the repository model of sharing i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toolset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391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architectural design and to discuss its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architectural design decisions that have to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three complementary architectural styles covering organisation, decompositio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reference architectures are used to communicate and compar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sitory model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icient way to share large amounts of dat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need not be concerned with how data is produced Centralised management e.g. backup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ing model is published as the repository sche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must agree on a repository data model. Inevitably a comprom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evolution is difficult and expensiv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cope for specific management polic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 to distribute efficient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-server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system model which shows how data and processing is distributed across a range o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stand-alone servers which provide specific services such as printing, data manage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clients which call on these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hich allows clients to access ser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m and picture libr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-server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on of data is straightforwar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s effective use of networked systems. May require cheaper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y to add new servers or upgrade existing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hared data model so sub-systems use different data organisation. Data interchange may be ineffici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ndant management in each serv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central register of names and services - it may be hard to find out what servers and services are 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stract machine (layered)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model the interfacing of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es the system into a set of layers (or abstract machines) each of which provide a set of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the incremental development of sub-systems in different layers. When a layer interface changes, only the adjacent layer is aff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often artificial to structure systems in this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managemen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 decomposition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 of decomposing sub-systems into mo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igid distinction between system organisation and modular decom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-systems and mo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system is a system in its own right whose operation is independent of the services provided by other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dule is a system component that provides services to other components but would not normally be considered as a separat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 de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structural level where sub-systems are decomposed into mod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modular decomposition models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object model where the system is decomposed into interacting objec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ipeline or data-flow model where the system is decomposed into functional modules which transform inputs to outpu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ossible, decisions about concurrency should be delayed until modules are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the system into a set of loosely coupled objects with well-defined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-oriented decomposition is concerned with identifying object classes, their attributes and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mplemented, objects are created from these classes and some control model used to coordinate object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mposition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1028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are loosely coupled so their implementation can be modified without affecting other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s may reflect real-world ent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 implementation languages are wide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object interface changes may cause problems and complex entities may be hard to represent as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ction-oriented pipel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 transformations process their inputs to produce outpu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referred to as a pipe and filter model (as in UNIX shel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nts of this approach are very common. When transformations are sequential, this is a batch sequential model which is extensively used in data process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really suitable for interactiv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21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peline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ransformation r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organisation for stakeholder 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add new transform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ly simple to implement as either a concurrent or sequential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requires a common format for data transfer along the pipeline and difficult to support event-base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o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concerned with the control flow between sub-systems. Distinct from the system decomposition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ub-system has overall responsibility for control and starts and stops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-ba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ub-system can respond to externally generated events from other sub-systems or the system’s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entralise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trol sub-system takes responsibility for managing the execution of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-retur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subroutine model where control starts at the top of a subroutine hierarchy and moves downwards. Applicable to sequential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ble to concurrent systems. One system component controls the stopping, starting and coordination of other system processes. Can be implemented in sequential systems as a case stat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l-retur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81080"/>
            <a:ext cx="84582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9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system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76201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1722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n by externally generated events where the timing of the event is outwith the control of the sub-systems which process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rincipal event-driven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cast models. An event is broadcast to all sub-systems. Any sub-system which can  handle the event may do s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-driven models. Used in real-time systems where interrupts are detected by an interrupt handler and passed to some other component for proces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event driven models include spreadsheets and production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sign process for identifying the sub-systems making up a system and the framework for sub-system control and communication is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architectural desig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utput of this design process is a description of th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software archit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oadcast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in integrating sub-systems on different computers in a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systems register an interest in specific events. When these occur, control is transferred to the sub-system which can handle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policy is not embedded in the event and message handler. Sub-systems decide on events of interest to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sub-systems don’t know if or when an event will be hand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ive broadca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458200" cy="3200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rup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eal-time systems where fast response to an event is ess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known interrupt types with a handler defined for each 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ype is associated with a memory location and a hardware switch causes transfer to its hand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fast response but complex to program and difficult to vali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rupt-driven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76520"/>
            <a:ext cx="76960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71500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models may be specific to some application dom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types of domain-specif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 models which are abstractions from a number of real systems and which encapsulate the principal characteristics of these systems. Covered in Chapter 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models which are more abstract, idealised model. Provide a means of information about that class of system and of comparing different architec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models are usually bottom-up models; Reference models are top-down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models are derived from a study of the application domain rather than from exist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used as a basis for system implementation or to compare different systems. It acts as a standard against which systems can be eval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I model is a layered model for communication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SI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ositor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and management of data i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integration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ing groups of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manageme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and enaction of process mod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ing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-tool and tool-environment commun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interfac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interface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CMA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343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ftware architecture is the fundamental framework for structuring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design decisions include decisions on the application architecture, the distribution and the architectural style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architectural models such as a structural model, a control model and a decomposition model may b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organisational models include repository models, client-server models and abstract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stage of the system desig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the link between specification and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carried out in parallel with some specifica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nvolves identifying major system components and their commun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 decomposition models include object models and pipelining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models include centralised control and event-driven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architectures may be used to communicate domain-specific architectures and to assess and compare architectural de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architectural models may be produced during the desig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odel presents different perspectives on th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ise operations to minimise sub-system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a layered architecture with critical assets in inner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 safety-critical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 redundant components in the 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ine-grain, self-contained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tages of explicit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e may be used as a focus of discussion by system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s that analysis of whether the system can meet its non-functional requirements is pos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scale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chitecture may be reusable across a range of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hitecture and system character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4000"/>
          </a:bodyPr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se critical operations and minimise communications. Use large rather than fine-grain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 layered architecture with critical assets in the inner lay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se safety-critical features in a small number of sub-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 redundant components and mechanisms for fault toler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ine-grain, replaceable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confli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large-grain components improves performance but reduces maintain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ing redundant data improves availability but makes security more diffic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sing safety-related features usually means more communication so degraded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structu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with decomposing the system into interacting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chitectural design is normally expressed as a block diagram presenting an overview of the system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models showing how sub-systems share data, are distributed and interface with each other may also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9T20:33:40Z</dcterms:created>
  <dc:creator/>
  <dc:description/>
  <dc:language>en-US</dc:language>
  <cp:lastModifiedBy>Ian Sommerville</cp:lastModifiedBy>
  <cp:lastPrinted>2009-04-22T19:24:48Z</cp:lastPrinted>
  <dcterms:modified xsi:type="dcterms:W3CDTF">2004-05-06T20:53:57Z</dcterms:modified>
  <cp:revision>29</cp:revision>
  <dc:subject/>
  <dc:title>Architectural Design</dc:title>
</cp:coreProperties>
</file>