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96825-845B-4E57-9D7F-5E2C6380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FA58D-6D17-4FF0-9727-F4BB19E8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4B4B6-9522-480F-9C9E-0FFA1405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B42C4-2546-4F1F-B423-8900DC6C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1F72-D765-49E9-8B50-27386C86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F4A5-1F16-420D-9B15-9C5A9705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2EB1-4ECE-41FC-9545-464B2625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2BBD-B347-43D9-BE7C-420DFADD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E9F1-59A4-4362-98DF-37823D50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D872-31CF-4DC2-988A-DD6E2F59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4420-1BB5-467F-8C42-3032CD95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064B6-1A20-4569-B04F-0428DE74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0EEC-750C-440C-BFC7-C722652D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38B2-178E-458D-B26C-9D44B160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1CCF-8B9E-47F1-9BCB-3F89447A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03A2-8608-417D-ACDD-D67BA819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F313-0C4A-481A-891D-EC5163F2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50B825-D785-4B08-A038-7DE48971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D9082-EDFB-45E3-8F01-4463F005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63DA6-7FEF-41E8-B5C3-50AEB01E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F24C4-946D-42FC-B4FF-A616A8ED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877B1-7903-4239-9C5C-B41AF6B7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84870-25BE-4DA8-82F5-28629949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908ED1-95BF-4C97-8DF0-9B986534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D48CF8-683A-49CA-BF89-CAD45D51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A8F60-BCF4-418C-AC73-9152AD9F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2BC1C1-BF50-4478-B383-49775D51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0CBB5C-BB87-46C8-BBE6-CC4235BD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0A363B-96F3-41B0-9BEA-94A8663D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AC3EF7-A61E-42A1-B2C2-CAB10635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F78E2-45C5-4C0F-9A10-152766B1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DC2EE-BEF0-40F4-9B68-6F02E8DC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5F766-28D7-4AB8-98B9-6A6A0473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0B65A-36FE-4967-8C2D-C8108603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54775-13AD-4D0F-80ED-F599A93E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8AC53-C27B-46BD-BB95-86BEC59D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9132D-7448-4F20-9BF6-F031730E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A94CD-2940-4943-A221-8B3981C9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6B34F-1050-489D-9BAC-404B4D85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3DF69-A2BD-48CE-89C3-1BB5F42E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9450A-AA10-4ABA-B5FB-C789BE1A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3182C-BEA3-4598-B0CD-41199277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DF33D-7B42-4D7E-8E63-F606E91B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32283-90AC-44FD-9C0D-5C20B313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A0B7A-A053-4FC0-8C8B-9BFBBEFF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E63D2-3F8E-4233-81C9-EEFACD1E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60A39-BAFC-4F5A-BB21-D4A7D96B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56FEE-EE45-4959-AA3B-83A68972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2876F-9C5D-4D2F-82D8-327C699D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996DA-4D88-45CC-BAEC-8EA6FC44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5E436-D9D1-4DEC-9BAC-F4B5C06C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7A8FB-AFC9-437C-B17F-D3D9C790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57B13-248D-4B8F-9E2B-3284607A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959E5-B641-4547-9518-5A5A1F1D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F1F4D-9CD0-496E-AF96-DA456180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9724B-B62C-4FA0-BB90-A1A0307B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54FED-7ECE-4D4A-B710-8679C7B1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20E12-B72C-4AFC-B69F-9BD64721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0841D-4A35-4531-9B5B-1A1C155F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53AFD-5C6A-400B-B8D8-57D2B9BA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FB166-A4EF-42A7-B3A8-E2FF1826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FDF7C-1298-4DF4-A936-E05E17E5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26685-38E8-417C-836D-FFF961BC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95AE9-E56F-4255-959C-31DA58E1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DED28-60F2-4F51-81C5-205DD312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E22B2-32AD-43BD-842C-4C0C5D8E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E6E85-0E1F-4033-B76B-262F8DA3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CC457-15E4-407D-8019-36C8ABF8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BA45F-FB76-4255-A795-5A4EA59E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EB70E-D9DC-4F2E-BD6D-B550C536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6C953-D790-4D8B-AAF4-044A768E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33A73-7780-4475-9B6F-8583783F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6681-E29F-49F6-A2E4-E5D934248E8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Lucida Calligraph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alligraphy"/>
              </a:rPr>
              <a:t>Dr. Iman Abdel A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ff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D41B-C247-4490-9432-79DE8B40A48A}" type="slidenum">
              <a:rPr b="0" lang="ar-SA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BC4F-063D-4175-A94E-E8FC7E542A6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0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1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Lucida Calligraph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alligraphy"/>
              </a:rPr>
              <a:t>Dr. Iman Abdel A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ff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B01A-7003-4525-9527-542DD19E5035}" type="slidenum">
              <a:rPr b="0" lang="ar-SA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8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8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89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ff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828C-FC32-4AB7-A609-FEF413749CA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3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3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39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0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ff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EC86-1442-418D-905E-85201C14CE2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alligraphy"/>
              </a:rPr>
              <a:t>Dr. Iman Abdel Aal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3" name="Picture 2" descr="http://www.kwety.net/kwety1/q810/dfadf.gif"/>
          <p:cNvPicPr/>
          <p:nvPr/>
        </p:nvPicPr>
        <p:blipFill>
          <a:blip r:embed="rId1"/>
          <a:stretch/>
        </p:blipFill>
        <p:spPr>
          <a:xfrm>
            <a:off x="639720" y="2214720"/>
            <a:ext cx="761544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alligraphy"/>
              </a:rPr>
              <a:t>Dr. Iman Abdel Aal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7" name="Picture 4" descr="33500098"/>
          <p:cNvPicPr/>
          <p:nvPr/>
        </p:nvPicPr>
        <p:blipFill>
          <a:blip r:embed="rId1"/>
          <a:stretch/>
        </p:blipFill>
        <p:spPr>
          <a:xfrm>
            <a:off x="826920" y="2637000"/>
            <a:ext cx="720108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00ff"/>
                </a:solidFill>
                <a:latin typeface="Comic Sans MS"/>
              </a:rPr>
              <a:t>Ankle JOINT</a:t>
            </a:r>
            <a:br>
              <a:rPr sz="4400"/>
            </a:b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ankle joint consists of a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eep socket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formed by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ower ends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of the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tibia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and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ibula,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into which is fitted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upper part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of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e body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of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e talus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talus is able to move on a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verse axis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n a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inge like manner.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hape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o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ones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and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trength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o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igaments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and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urrounding tendons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make this joint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trong and stable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Articula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Articulation is between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ower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end o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ibia,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wo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alleoli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and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ody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o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alus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inferior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verse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ibiofibular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igament,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which runs between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ateral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alleolus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and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sterior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order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o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ower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nd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o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ibia, deepens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the socket into which the body of the talus fits snugly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articular surfaces are covered with hyaline cartilage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Footer Placeholder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alligraphy"/>
              </a:rPr>
              <a:t>Dr. Iman Abdel Aal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00ff"/>
                </a:solidFill>
                <a:latin typeface="Comic Sans MS"/>
              </a:rPr>
              <a:t>Ankle JOINT</a:t>
            </a:r>
            <a:br>
              <a:rPr sz="4400"/>
            </a:b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88" name="Footer Placeholder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alligraphy"/>
              </a:rPr>
              <a:t>Dr. Iman Abdel Aal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2500200" y="1008000"/>
            <a:ext cx="4038840" cy="277812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2714760" y="3929040"/>
            <a:ext cx="3571920" cy="246708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00ff"/>
                </a:solidFill>
                <a:latin typeface="Comic Sans MS"/>
              </a:rPr>
              <a:t>Ankle JOINT</a:t>
            </a:r>
            <a:br>
              <a:rPr sz="4400"/>
            </a:b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ankle is a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ynovial hinge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joint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Capsu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capsule encloses the joint and is attached to the bones near their articular margins.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Ligamen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The medial, or deltoid ligament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s strong and is attached by its apex to the tip of the medial malleolus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Below, the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deep fibers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are attached to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alus;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ustentaculum tali,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lantar calcaneonavicular ligament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and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uberosity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o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navicular bone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Footer Placeholder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alligraphy"/>
              </a:rPr>
              <a:t>Dr. Iman Abdel Aal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alligraphy"/>
              </a:rPr>
              <a:t>Dr. Iman Abdel Aal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404200" cy="591480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00ff"/>
                </a:solidFill>
                <a:latin typeface="Comic Sans MS"/>
              </a:rPr>
              <a:t>Ankle JOINT</a:t>
            </a:r>
            <a:br>
              <a:rPr sz="4400"/>
            </a:b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Ligamen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lateral ligament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s weaker than the medial ligament and consists of three bands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nterior talofibular ligament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runs from the lateral malleolus to the lateral surface of the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talus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alcaneofibular ligament 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runs from the tip of the lateral malleolus downward and backward to the lateral surface of the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calcaneum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sterior talofibular ligament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runs from the lateral malleolus to the posterior tubercle of the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talus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Synovial Membran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synovial membrane lines the capsule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Nerve Suppl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Deep peroneal and tibial nerves supply the ankle joint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Footer Placeholder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alligraphy"/>
              </a:rPr>
              <a:t>Dr. Iman Abdel Aal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alligraphy"/>
              </a:rPr>
              <a:t>Dr. Iman Abdel Aal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8574120" cy="485928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00ff"/>
                </a:solidFill>
                <a:latin typeface="Comic Sans MS"/>
              </a:rPr>
              <a:t>Ankle JOINT</a:t>
            </a:r>
            <a:br>
              <a:rPr sz="4400"/>
            </a:b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Movemen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movements of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version and eversion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ake place at the tarsal joints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 at the ankle joint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Dorsiflexion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is performed by the tibialis anterior, extensor hallucis longus, extensor digitorum longus and peroneus tertius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Plantar flexion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s performed by the gastrocnemius, soleus, plantaris, peroneus longus, peroneus brevis, tibialis posterior, flexor digitorum longus and flexor hallucis longus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Important Relati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nteriorly: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tibialis anterior, the extensor hallucis longus, the anterior tibial vessels, the deep peroneal nerve, the extensor digitorum longus and the peroneus tertius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steriorly: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tendo calcaneus and plantaris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Footer Placeholder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alligraphy"/>
              </a:rPr>
              <a:t>Dr. Iman Abdel Aal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alligraphy"/>
              </a:rPr>
              <a:t>Dr. Iman Abdel Aal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1500120" y="291960"/>
            <a:ext cx="6357960" cy="606600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21:34:47Z</dcterms:created>
  <dc:creator>Unknown User</dc:creator>
  <dc:description/>
  <dc:language>en-US</dc:language>
  <cp:lastModifiedBy>Iman</cp:lastModifiedBy>
  <dcterms:modified xsi:type="dcterms:W3CDTF">2009-11-10T18:42:57Z</dcterms:modified>
  <cp:revision>360</cp:revision>
  <dc:subject/>
  <dc:title>Orbit</dc:title>
</cp:coreProperties>
</file>