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40CE2-F554-4C08-A893-68B0E8B3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23427-A6B0-4809-BB7B-7A0D9AFA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AD838-2C09-4B7C-8173-82513997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80826-151A-4450-A3F6-0EB265F8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254D-06D4-4938-A8D3-73140BFF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B536-C7E6-4CE1-B3CA-3DC75202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C203-705F-4748-BE1A-EC696CEB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3DA3-A662-4BE6-AD3E-60B340D0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2D8B-8705-4CB6-8EED-37DC29A2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3117-0983-4EA2-A604-7F201C25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873E-229A-4942-8DEC-F17E41F2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AD9C1-61A6-4EA9-85D1-F1D99689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8BE5-E570-45E3-A6C7-7DB479CB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52C5-391A-4317-8D63-8DBBA322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AB97-F97A-468B-B0AA-275F2225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7ED2-F771-4C07-831D-A9173740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148E-94DE-45A7-9B3F-C66CD8A5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0FEE91-5FF6-4F76-82DB-05CADE80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B2C6FC-2F6E-4237-A961-61AA9506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CA62F5-230A-46C9-86C5-B7802AFA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FAEB2-BB44-4949-8907-54C46757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C10DAF-77A2-4DE9-95B4-8E93E6F3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71F6E-2C4C-4627-AF38-8B77BD86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BB133C-AD75-4A3B-A1CA-3C43C5AE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FE6AB7-CF21-44D5-A5B4-E127CF90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D95EC4-65A5-42DD-B41D-A13EB412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268571-B75F-42E2-A572-28904AB4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B7C72-9A32-4CCA-8FB0-2FC374C9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BFB88C-F052-409F-B3F3-87739B90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0552B9-9543-4543-BD7A-7935C387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2C756-F6B7-486F-8398-5B2F6D27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51C11-66E5-4905-9EAB-814E60FB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E58F8-015B-40A7-B4C7-89DC4A23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4ACDB-F1EA-45A0-ADFE-BB0D2A61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60498-FA11-4BC6-8ED3-723787C5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5001F-3F42-4F96-B84B-422B9F1A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A32CC-A533-4F42-9641-AC6FD4DB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D8718-60B9-4F32-B1D9-34B5E932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5CA82-F5FB-4D95-A542-598AB1B3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0FFD8-4435-48A9-B281-08573E98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CB2BA-091F-452E-AFDA-4D2ECB07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8860C-8886-4D12-95D5-867DA25B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4648F-10DC-4EC7-AA1D-62F354F26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E87A6-8272-417B-BEFC-43CA8988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0AA6C-8A6D-4B23-A7E2-F6E7127E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30ED1-81EB-4553-B105-1B156F12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94FC5-E11D-468C-A050-E7976094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14D0E-C30E-4F87-82E7-609D86B4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69C23-4D54-4FD0-A926-74404526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6D31B-9427-42E7-8BFC-E92B1CA7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3EE45-4F54-49F8-8053-07F593C4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8198F-275F-4683-95B2-2C021357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7D513-E855-43BE-BC9E-197E4DD8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F2D3E-AA28-46BA-AAE0-6CCF9B2F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4C106-9735-4E8B-88DC-DFE55307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112E8-BD84-4725-B4AA-35EAE4D2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211D9-1D0A-464B-8A13-5226ADA0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82D08-5974-46C8-9209-961B6B39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8BB80-2787-4C1C-A16E-AC184BA9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FA63E-3E50-4B69-93C7-931A16C6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76EFB-5D5B-422A-ADB1-003A9525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42E37-B39F-4D84-BB04-56E62EA1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5F278-0996-4E96-9911-3CA21B15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C7165-BFF6-4BAD-A70F-FB15DC7B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4A705-EBA5-4FC9-BD84-B0B5D24C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A73F8-91AD-4DF6-95A4-4570654B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AC798-A9CE-4FAD-8F87-8329C170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E366B-CCD3-4CC1-BEA7-0ED3D7B7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0D6EB-380E-41B4-8D76-4AF754BE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D69C9-DFD1-4D55-8852-5503C5B8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FBD02-0638-4424-80BA-51052BA8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345B6-9F04-4EA0-859A-2E2ED747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AFC8-A968-4DC2-8E46-23F6334C219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Lucida Calligraph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alligraphy"/>
              </a:rPr>
              <a:t>Dr. Iman Abdel A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ff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E4BB-473D-41A9-A9CB-8D056CE5A8C7}" type="slidenum">
              <a:rPr b="0" lang="ar-SA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4511-6B04-4FB4-8796-0AB89AEFDD8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4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5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6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8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9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0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1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Lucida Calligraph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alligraphy"/>
              </a:rPr>
              <a:t>Dr. Iman Abdel Aa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ff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5F0A-7CAE-4368-B9E5-FACADE08B53E}" type="slidenum">
              <a:rPr b="0" lang="ar-SA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8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8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89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ff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F0E5-7AE0-479F-93E7-856B87F8A2D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33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34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5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6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7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8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239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0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ff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43DD-7F6C-4268-A319-5B8AAD60CE1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alligraphy"/>
              </a:rPr>
              <a:t>Dr. Iman Abdel Aal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3" name="Picture 2" descr="http://www.kwety.net/kwety1/q810/dfadf.gif"/>
          <p:cNvPicPr/>
          <p:nvPr/>
        </p:nvPicPr>
        <p:blipFill>
          <a:blip r:embed="rId1"/>
          <a:stretch/>
        </p:blipFill>
        <p:spPr>
          <a:xfrm>
            <a:off x="639720" y="2214720"/>
            <a:ext cx="761544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alligraphy"/>
              </a:rPr>
              <a:t>Dr. Iman Abdel Aal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7" name="Picture 4" descr="33500098"/>
          <p:cNvPicPr/>
          <p:nvPr/>
        </p:nvPicPr>
        <p:blipFill>
          <a:blip r:embed="rId1"/>
          <a:stretch/>
        </p:blipFill>
        <p:spPr>
          <a:xfrm>
            <a:off x="826920" y="2637000"/>
            <a:ext cx="720108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00ff"/>
                </a:solidFill>
                <a:latin typeface="Comic Sans MS"/>
              </a:rPr>
              <a:t>Ankle JOINT</a:t>
            </a:r>
            <a:br>
              <a:rPr sz="4400"/>
            </a:b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ankle joint consists of a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eep socket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formed by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ower ends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of the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tibia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and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ibula,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into which is fitted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upper part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of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e body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of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e talus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talus is able to move on a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verse axis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n a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inge like manner.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hape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o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ones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and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trength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o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igaments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and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urrounding tendons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make this joint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trong and stable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Articula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Articulation is between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ower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end o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ibia,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wo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alleoli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and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ody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o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alus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inferior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verse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ibiofibular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igament,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which runs between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ateral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alleolus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and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sterior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order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o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ower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nd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o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ibia, deepens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the socket into which the body of the talus fits snugly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articular surfaces are covered with hyaline cartilage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Footer Placeholder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alligraphy"/>
              </a:rPr>
              <a:t>Dr. Iman Abdel Aal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00ff"/>
                </a:solidFill>
                <a:latin typeface="Comic Sans MS"/>
              </a:rPr>
              <a:t>Ankle JOINT</a:t>
            </a:r>
            <a:br>
              <a:rPr sz="4400"/>
            </a:b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88" name="Footer Placeholder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alligraphy"/>
              </a:rPr>
              <a:t>Dr. Iman Abdel Aal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2500200" y="1008000"/>
            <a:ext cx="4038840" cy="277812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2714760" y="3929040"/>
            <a:ext cx="3571920" cy="246708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00ff"/>
                </a:solidFill>
                <a:latin typeface="Comic Sans MS"/>
              </a:rPr>
              <a:t>Ankle JOINT</a:t>
            </a:r>
            <a:br>
              <a:rPr sz="4400"/>
            </a:b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Typ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ankle is a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ynovial hinge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joint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Capsu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capsule encloses the joint and is attached to the bones near their articular margins.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Ligamen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The medial, or deltoid ligament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s strong and is attached by its apex to the tip of the medial malleolus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Below, the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deep fibers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are attached to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alus;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ustentaculum tali,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lantar calcaneonavicular ligament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and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uberosity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of 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navicular bone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Footer Placeholder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alligraphy"/>
              </a:rPr>
              <a:t>Dr. Iman Abdel Aal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alligraphy"/>
              </a:rPr>
              <a:t>Dr. Iman Abdel Aal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404200" cy="591480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00ff"/>
                </a:solidFill>
                <a:latin typeface="Comic Sans MS"/>
              </a:rPr>
              <a:t>Ankle JOINT</a:t>
            </a:r>
            <a:br>
              <a:rPr sz="4400"/>
            </a:b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Ligamen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lateral ligament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s weaker than the medial ligament and consists of three bands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nterior talofibular ligament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runs from the lateral malleolus to the lateral surface of the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talus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alcaneofibular ligament 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runs from the tip of the lateral malleolus downward and backward to the lateral surface of the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calcaneum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sterior talofibular ligament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runs from the lateral malleolus to the posterior tubercle of the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talus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Synovial Membran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synovial membrane lines the capsule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Nerve Suppl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Deep peroneal and tibial nerves supply the ankle joint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Footer Placeholder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alligraphy"/>
              </a:rPr>
              <a:t>Dr. Iman Abdel Aal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alligraphy"/>
              </a:rPr>
              <a:t>Dr. Iman Abdel Aal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8574120" cy="485928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00ff"/>
                </a:solidFill>
                <a:latin typeface="Comic Sans MS"/>
              </a:rPr>
              <a:t>Ankle JOINT</a:t>
            </a:r>
            <a:br>
              <a:rPr sz="4400"/>
            </a:br>
            <a:endParaRPr b="1" lang="en-US" sz="4400" spc="-1" strike="noStrike">
              <a:solidFill>
                <a:srgbClr val="ff00ff"/>
              </a:solidFill>
              <a:latin typeface="Garamond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Movemen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movements of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version and eversion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ake place at the tarsal joints 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t at the ankle joint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Dorsiflexion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is performed by the tibialis anterior, extensor hallucis longus, extensor digitorum longus and peroneus tertius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Plantar flexion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s performed by the gastrocnemius, soleus, plantaris, peroneus longus, peroneus brevis, tibialis posterior, flexor digitorum longus and flexor hallucis longus.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Important Relati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nteriorly: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tibialis anterior, the extensor hallucis longus, the anterior tibial vessels, the deep peroneal nerve, the extensor digitorum longus and the peroneus tertius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ffff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steriorly: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The tendo calcaneus and plantaris.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Footer Placeholder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alligraphy"/>
              </a:rPr>
              <a:t>Dr. Iman Abdel Aal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Lucida Calligraphy"/>
              </a:rPr>
              <a:t>Dr. Iman Abdel Aal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1500120" y="291960"/>
            <a:ext cx="6357960" cy="606600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21:34:47Z</dcterms:created>
  <dc:creator>Unknown User</dc:creator>
  <dc:description/>
  <dc:language>en-US</dc:language>
  <cp:lastModifiedBy>Iman</cp:lastModifiedBy>
  <dcterms:modified xsi:type="dcterms:W3CDTF">2009-11-10T18:42:57Z</dcterms:modified>
  <cp:revision>360</cp:revision>
  <dc:subject/>
  <dc:title>Orbit</dc:title>
</cp:coreProperties>
</file>