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6CD-8F85-4860-9D6E-67ED8F0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302-9CD1-4A10-A403-8E48F330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D1E-C026-4FBB-B91A-40E1DECE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DA5-2595-490F-9D5F-C363D15D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502-4F32-429D-8F28-63FC130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FE7-4D88-4605-927F-0783EDE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22E-F5C4-45E0-8398-7E837986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F8C-76EF-47AA-82C0-F0718B4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2CA-A964-4B3A-B8CF-59C4D17E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8D2-0B51-40D3-B47A-E68DD32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A05-655D-4D7F-8700-F05B8E9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EF8-3E44-4F62-A996-9536CF9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4919-41A9-4D39-BE13-E366BD2B0B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42:21Z</dcterms:modified>
  <cp:revision>24</cp:revision>
  <dc:subject/>
  <dc:title>슬라이드 1</dc:title>
</cp:coreProperties>
</file>