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342-4F87-4C6B-9F01-1E83042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750-32D3-4131-B559-3EC3634B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688-00DB-49DC-8181-3F117F03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5FD-CE32-4C58-AE5A-A245E441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628-FFA1-4273-9865-A747E2A1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8B1-7A2C-4E8E-8FB1-50C03C3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1A8-4FA9-4B12-BB83-222DA73D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3EC-6647-4D77-9C61-8A38F4F2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890-E8DF-4BD2-8B23-0EC2E8D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D06-CA61-41C3-8C66-898E01D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CA3-6263-43E3-B40C-5D6C644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53E-46B6-4C10-8720-BC25C20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F16-7AFD-41F3-8923-6033807A41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42:21Z</dcterms:modified>
  <cp:revision>24</cp:revision>
  <dc:subject/>
  <dc:title>슬라이드 1</dc:title>
</cp:coreProperties>
</file>