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56AB-B2CA-48DB-943B-6675A807E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4800-B123-4D30-91B7-AE3980109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06B8-976B-4FBB-8152-18037B7AA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2FEE-352B-483A-B73D-13B512457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1BDB-4008-488B-B6B7-D6E80538B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3AEA-C735-402B-95B8-5AE9FDD2F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E40B-663F-43A4-83EC-394C27A44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E50E-1990-43C9-A990-530F759F3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7E39-C527-456E-97A4-0270E8994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2A7E-D81D-441A-A3D8-40EEA6C4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B37C-CB42-40CC-B6A6-3EBAA1ED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ED3A-0374-4BD8-B5F9-52F6317E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10D2D-50E2-4D18-B570-A530E225984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그림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그림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1:22:16Z</dcterms:created>
  <dc:creator>All user</dc:creator>
  <dc:description/>
  <dc:language>en-US</dc:language>
  <cp:lastModifiedBy>Seo, Jiwon</cp:lastModifiedBy>
  <dcterms:modified xsi:type="dcterms:W3CDTF">2020-12-31T01:55:01Z</dcterms:modified>
  <cp:revision>26</cp:revision>
  <dc:subject/>
  <dc:title>슬라이드 1</dc:title>
</cp:coreProperties>
</file>