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657-6973-4563-B74A-20DA8985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0B3-D06B-4C2C-AB27-395502E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123-24C2-42A7-96A9-10BD58E1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0DE-3EF4-4429-A0E2-EE44A8DA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62E-6D0C-4BB2-A6C2-35118017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2DF-9C75-41B4-9D81-4C13BBC2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BAB-2B00-4917-A0E9-F8EE4055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0D2-A040-49F8-A77F-4C47C950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C1A9-747D-4749-A268-80319E65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361-9D26-43B1-8AFB-19C4DE0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668-1B2C-40CC-93A8-243F24F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FDE-CC21-471E-818C-4BAD155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1318-FB82-4A3C-9814-D825213839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1:55:01Z</dcterms:modified>
  <cp:revision>26</cp:revision>
  <dc:subject/>
  <dc:title>슬라이드 1</dc:title>
</cp:coreProperties>
</file>